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660-63AB-4819-A35A-F4E1109E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C28-EEA4-467F-84D5-397F1C74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42D9-BF62-4FFB-8A2F-A7604548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3E0E-61E3-4EFC-A5C0-D98FCE40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D33A-3E48-4C18-AE38-7A39B9F3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6644-9827-4459-9FE5-C8E4C3FF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1376-05C6-4C99-8F24-37AE7F8B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8007-6CFC-48F7-97A4-F5EE4FF6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A248-60F0-4B7D-AAD3-B59B27AB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E927-3878-4562-9881-6C57CBF4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2951-B317-4D02-A3BA-7497485A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61BF-93C7-4A5F-9388-1D30F7DB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51B8-3A66-4918-AC31-9C181F7A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9974-6918-47D0-BB8A-32AC1396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0A46-2AB0-4441-B789-EDDD2066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6E19-9B4C-4720-95A6-5EF03780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29BB-E89C-413A-AE21-4770DDFA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D60-7A4E-4D0E-BA7C-18B90F78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EB6-B681-4C4D-9FB0-9EFAD6E0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82CD-0324-4C1D-9C51-51AE5BF4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2E1-B11C-4248-96C8-D3AC6639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8B5A-A543-433E-8FFA-3DCCF402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CFD-14E7-4DAB-9CD6-42D4CD52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7D8B-AA0E-4167-95EC-92563588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6E7A-0C0F-4CC0-A06B-48A670283A4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24FE-72E6-4344-833B-857EC10BB6B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davidb@athabascau.ca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mailto:davidb@athabascau.ca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ritical Discussion Grou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nline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Asynchronou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ow to reconcile paced and non-pac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3 Assignment Ste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one paragraph summarizing the issue of controversy in your field of work, study, or communit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nclude  your paragraph with a reflection on some implication of the controvers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ite one secondary source related to one side of the controversy and a second one related to the other sid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brief responses to your group members’ postings; with each response, add a further source on your classmate’s topic, and say why you think it might prove usefu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ssignment Criteria Checklist for Discussion 3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n effective title that expresses topic and controlling ide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n effective topic sentence and application of the 4 F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 style and tone adapted to the occasion and audien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Effective organizational structure suited to the purpos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Correct grammar, punctuation, and mechanic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9 – 12 sentences long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Effective citation of two sources using MLA or APA style (one source speaking to one side of the controversy, the other source speaking to the other side of the controversy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Correct listing of the sources at the end, using MLA or APA styl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davidb@athabascau.c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780) 435-068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ing soon: AU staff simul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ritical discussion group mod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f you instruct or coordinate a course whose students might benefit from joining the undergraduate discussion group model, contact David Brundage for more informatio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ritical Discussion Grou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esign tested by formal stud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74% course pass rate for those who chose group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50.5% pass rate for those who did not choose the group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87% who completed groups passed the cours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9.6% of students chose the group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davidb@athabascau.ca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 for inf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1 Required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udience awareness and how to adapt tone to suit occasion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aragraph craft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rammar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 all skills, study links are provided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1 Assignment Ste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st one paragraph introducing yoursel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st a second paragraph discussing one aspect of your culture or commun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dentify one article or excerpt from the discussion group reader that you intend to  discuss next meet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dentify the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topic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of your planned posting for Discussion 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st brief responses to your group members’ two paragraph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ssignment Criteria Checklist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or Discussion 1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 effective title that expresses topic and controlling ide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 effective topic sentence and application of the 4 F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personal style and tone adapted to the occasion and audie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rrect grammar, punctuation, and mechanic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9 – 12 sentences per paragrap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2 Required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how to write a summary and (for essays with hard-to-find theses) how to use rhetorical analysis to infer a thes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critical thinking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logic and fallac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research methods and documentation style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aragraph craf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rammar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 all skills, study links are provid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2 Assignment Ste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one brief paragraph summarizing the readin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one substantive paragraph stating and explaining your critical respons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se one secondary source to inform your discuss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ocument your citation, and list the source at the end of your paragraph according to MLA or APA sty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brief responses to your group members’ summaries and critical respons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nnounce the controversy that you will be summarizing for discussion 3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ssignment Criteria Checklist for Discussion 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:  a basic title as follows--  A Summary of “Title of Reading”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: judicious application of the “10 Steps to a Successful Summary”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:  maximum length of 5 senten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an effective title that expresses topic and controlling idea; length of at least 9 senten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a strong opening sentence providing controlling idea and a sense of the reasons, to be discussed in the rest of the paragrap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suitable critical tone and style and observation of the 4 Fs of paragraph craf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 effective citation of one source using MLA or APA styl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listing of the source at the end, using MLA or APA styl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 and critical response: correct grammar, punctuation, and mechanic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3 Required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ummariz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inciples of argument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parison structure to balance equally both sides of a controvers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Fs of paragraph craf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search and documentation method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rrect grammar, punctuation, and mechanic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 all skills, study links are provid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1:09:36Z</dcterms:created>
  <dc:creator>davidb</dc:creator>
  <dc:description/>
  <dc:language>en-US</dc:language>
  <cp:lastModifiedBy>davidb</cp:lastModifiedBy>
  <dcterms:modified xsi:type="dcterms:W3CDTF">2007-09-18T19:59:20Z</dcterms:modified>
  <cp:revision>15</cp:revision>
  <dc:subject/>
  <dc:title>Critical Discussion Groups</dc:title>
</cp:coreProperties>
</file>