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9B1-33FB-425A-8D27-E7D24F1B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5FF-AE8A-4FD9-97C1-7DF06AF8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D3E-73A9-427C-9CFD-15B29212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F08-C90C-44B8-9497-44D91996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04D9-83AB-449A-82DC-0F7772C7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26C4-9AB4-47DC-A39A-4868A4C1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567D-F65B-42E1-B475-3B2C51F8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9621-0632-4EED-9644-90D78B3D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760A-AAA4-4FB3-A54E-7E413F1B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E420-F9FB-4730-AF32-53B55ABF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30A3-2AC2-4C27-9DC4-CD27CBF6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449-94F9-4118-81D0-FBD4E1B0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5E35-82E9-4186-8142-62A49D4D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FE4D-6B22-4C98-BE01-C0052393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9876-0CC4-4056-B75C-2814DB9F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8D1E-BFB9-49C1-B2AC-C18E978D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570E-B88C-4C1D-9FB3-374030E3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77B-51A4-4463-82BD-EA2BD310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316-F183-423D-807D-F9DBF03A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5F8-6C7E-4247-8030-50D0F361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A7F-3ECE-4BFF-A3E0-56B4A9B4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346-6D0F-426F-A1A1-81DA64CE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C36-EC2B-4C1E-98F9-F21A60B0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663-9EF4-4F95-9F47-355ED290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6F07-321D-41AC-BB6B-6EB952E8CD7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9A47-6709-43FF-9C6B-7EAA842D14B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davidb@athabascau.ca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mailto:davidb@athabascau.ca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ritical Discussion Grou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nlin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Asynchronou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ow to reconcile paced and non-pac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3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paragraph summarizing the issue of controversy in your field of work, study, or commun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nclude  your paragraph with a reflection on some implication of the controvers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ite one secondary source related to one side of the controversy and a second one related to the other sid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brief responses to your group members’ postings; with each response, add a further source on your classmate’s topic, and say why you think it might prove usefu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 for Discussion 3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n effective title that expresses topic and controlling ide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n effective topic sentence and application of the 4 F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 style and tone adapted to the occasion and audien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ffective organizational structure suited to the purpos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9 – 12 sentences long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ffective citation of two sources using MLA or APA style (one source speaking to one side of the controversy, the other source speaking to the other side of the controversy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Correct listing of the sources at the end, using MLA or APA styl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davidb@athabascau.c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780) 435-068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ing soon: AU staff simul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ritical discussion group mod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f you instruct or coordinate a course whose students might benefit from joining the undergraduate discussion group model, contact David Brundage for more inform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ritical Discussion Grou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sign tested by formal stud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74% course pass rate for those who chos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50.5% pass rate for those who did not choose th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87% who completed groups passed the cour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9.6% of students chose th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davidb@athabascau.ca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 for inf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1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dience awareness and how to adapt tone to suit occasion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ragraph craf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ammar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1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one paragraph introducing yoursel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a second paragraph discussing one aspect of your culture or commun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dentify one article or excerpt from the discussion group reader that you intend to  discuss next meet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dentify th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topic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of your planned posting for Discussion 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brief responses to your group members’ two paragraph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or Discussion 1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 effective title that expresses topic and controlling ide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 effective topic sentence and application of the 4 F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personal style and tone adapted to the occasion and audie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9 – 12 sentences per paragrap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2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how to write a summary and (for essays with hard-to-find theses) how to use rhetorical analysis to infer a thes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critical thinking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logic and fallac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research methods and documentation style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ragraph craf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ammar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2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brief paragraph summarizing the read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substantive paragraph stating and explaining your critical respons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se one secondary source to inform your discuss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ocument your citation, and list the source at the end of your paragraph according to MLA or APA sty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brief responses to your group members’ summaries and critical respons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nnounce the controversy that you will be summarizing for discussion 3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 for Discussion 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 a basic title as follows--  A Summary of “Title of Reading”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judicious application of the “10 Steps to a Successful Summary”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 maximum length of 5 sente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an effective title that expresses topic and controlling idea; length of at least 9 sente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a strong opening sentence providing controlling idea and a sense of the reasons, to be discussed in the rest of the paragrap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suitable critical tone and style and observation of the 4 Fs of paragraph craf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 effective citation of one source using MLA or APA sty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listing of the source at the end, using MLA or APA sty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 and critical response: correct grammar, punctuation, and mechanic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3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ummariz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inciples of argument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parison structure to balance equally both sides of a controvers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Fs of paragraph craf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search and documentation method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1:09:36Z</dcterms:created>
  <dc:creator>davidb</dc:creator>
  <dc:description/>
  <dc:language>en-US</dc:language>
  <cp:lastModifiedBy>davidb</cp:lastModifiedBy>
  <dcterms:modified xsi:type="dcterms:W3CDTF">2007-09-18T19:59:20Z</dcterms:modified>
  <cp:revision>15</cp:revision>
  <dc:subject/>
  <dc:title>Critical Discussion Groups</dc:title>
</cp:coreProperties>
</file>