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E0A-1C52-497E-A641-AED1B6FA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E34-E70D-448B-A3E0-FF6C515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306-94B1-4521-A67E-43A13C10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8BF-E501-4523-91EE-8E7DD122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A0D-9FE2-45C4-91E9-D27B612B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B689-579A-4D4B-BD95-ABBAE444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5F2F-6F02-42FD-9E8A-EF4901D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6D89-AA24-407C-83CE-F3E286DD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57F-22CE-4867-8DE8-BF626361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537F-4C1A-4664-87C0-04FC8C9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2BC-CDA5-42F5-A872-B116EF0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CEA-DC20-4E0D-B53D-9080AB84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436D-EEC1-4A3E-A8F0-A666584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4C8E-4974-4924-97A6-5B51D62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7696-A390-4A4E-8CA7-287919D8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83CF-49B5-413C-9227-E92ECBE7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DDB9-2D81-4967-9EEA-92AE7ECF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548-B0ED-4F10-B1DA-0C84995A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A7A-8509-4C33-A29D-F0008B1A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A80-6DB9-4047-B254-1937AD2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BD4-EA0E-48E7-9349-F232C72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3B1-E9D0-4031-B27F-C3B4AFC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6A8-C37E-42FF-B6FC-BCB353A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5A8-30D0-4F31-90C8-72A3F57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A224-1C39-4332-915D-5ED567BA514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403-0822-4268-9956-5C0CEF84C8F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avidb@athabascau.c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mailto:davidb@athabascau.ca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synchrono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o reconcile paced and non-pa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paragraph summarizing the issue of controversy in your field of work, study, or commun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clude  your paragraph with a reflection on some implication of the controvers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ite one secondary source related to one side of the controversy and a second one related to the other s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postings; with each response, add a further source on your classmate’s topic, and say why you think it might prov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 style and tone adapted to the occasion and audien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organizational structure suited to the purpos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9 – 12 sentences lo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ffective citation of two sources using MLA or APA style (one source speaking to one side of the controversy, the other source speaking to the other side of the controversy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rrect listing of the sources at the end, using MLA or APA styl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davidb@athabascau.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780) 435-06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 soon: AU staff sim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ritical discussion group mod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you instruct or coordinate a course whose students might benefit from joining the undergraduate discussion group model, contact David Brundage for more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ritical Discussion Grou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ign tested by formal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74% course pass rate for those who chos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0.5% pass rate for those who did not cho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7% who completed groups passed the cour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.6% of students chose the grou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davidb@athabascau.ca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 for inf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dience awareness and how to adapt tone to suit occasio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1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one paragraph introducing your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a second paragraph discussing one aspect of your culture or commu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one article or excerpt from the discussion group reader that you intend to  discuss next mee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y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opic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your planned posting for Discussion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st brief responses to your group members’ two paragrap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 Discussion 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itle that expresses topic and controlling id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effective topic sentence and application of the 4 F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personal style and tone adapted to the occasion and aud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9 – 12 sentences per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how to write a summary and (for essays with hard-to-find theses) how to use rhetorical analysis to infer a the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critical think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logic and fallac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areness of research methods and documentation sty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mma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2 Assignment Ste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brief paragraph summarizing the rea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one substantive paragraph stating and explaining your critical respon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one secondary source to inform your discus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cument your citation, and list the source at the end of your paragraph according to MLA or APA sty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st brief responses to your group members’ summaries and critical respon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nounce the controversy that you will be summarizing for discussion 3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 Criteria Checklist for Discussion 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a basic title as follows--  A Summary of “Title of Reading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judicious application of the “10 Steps to a Successful Summary”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:  maximum length of 5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n effective title that expresses topic and controlling idea; length of at least 9 sente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a strong opening sentence providing controlling idea and a sense of the reasons, to be discussed in the rest of the paragrap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suitable critical tone and style and observation of the 4 Fs of paragraph craf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 effective citation of one source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critical paragraph: listing of the source at the end, using MLA or APA sty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or the summary and critical response: correct grammar, punctuation, and mechan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scussion 3 Required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inciples of argumen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rison structure to balance equally both sides of a controvers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Fs of paragraph craf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earch and documentation method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rrect grammar, punctuation, and mechan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all skills, study links are provid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09:36Z</dcterms:created>
  <dc:creator>davidb</dc:creator>
  <dc:description/>
  <dc:language>en-US</dc:language>
  <cp:lastModifiedBy>davidb</cp:lastModifiedBy>
  <dcterms:modified xsi:type="dcterms:W3CDTF">2007-09-18T19:59:20Z</dcterms:modified>
  <cp:revision>15</cp:revision>
  <dc:subject/>
  <dc:title>Critical Discussion Groups</dc:title>
</cp:coreProperties>
</file>