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BEA-D315-4A4F-AD1E-FA71F317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3AF-0A7C-4756-B7F5-EC500AB6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03E-4C65-4CED-8FFB-2F834EBA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7F3-F686-4EE5-884D-3995EE3D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A0E9-7CA0-4F66-BB12-F81615C6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70F-E311-4D7F-A462-FB3F3823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4F1A-2139-45FA-90EF-80A27816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CFC3-4BFC-4C98-9244-40AF5524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235F-5C53-44B0-855A-0201C896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D760-6D3E-4742-9F02-CC270BE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E5B8-6CD6-4401-98D8-0A1F023B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AF5-BAE7-419C-9F8D-744D89F6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2862-AFA2-4EE7-A72C-9AC2A90B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C65D-BFE2-48BC-90EE-8663BCA7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364A-D7C8-4608-B936-D032D979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0090-53F6-407E-B0D3-1D6E7DC2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5535-27EC-480B-8C97-42E54C3F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30F-6713-49CB-9B02-EA34997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AA6-59E6-44EB-9390-4CDAE907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856-479B-4937-8B47-C544F0DE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90C-79BA-473A-823F-DFD4E72B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3D8-67AB-405B-954C-5827DE87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FB7-B155-450D-8556-8BA75993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3D7-D5FA-4C26-9CE4-F0D130F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D450-61D1-49E9-8D17-A1BFE872F97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EC13-67E7-4A8D-8E1B-A9EF5DB8B44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davidb@athabascau.c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mailto:davidb@athabascau.ca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lin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synchrono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to reconcile paced and non-pac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paragraph summarizing the issue of controversy in your field of work, study, or commun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clude  your paragraph with a reflection on some implication of the controvers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ite one secondary source related to one side of the controversy and a second one related to the other si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postings; with each response, add a further source on your classmate’s topic, and say why you think it might prove usefu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 style and tone adapted to the occasion and audien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organizational structure suited to the purpos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9 – 12 sentences lo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citation of two sources using MLA or APA style (one source speaking to one side of the controversy, the other source speaking to the other side of the controversy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listing of the sources at the end, using MLA or APA styl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davidb@athabascau.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780) 435-068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ing soon: AU staff simul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ritical discussion group mod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you instruct or coordinate a course whose students might benefit from joining the undergraduate discussion group model, contact David Brundage for more inform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sign tested by formal stud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74% course pass rate for those who chos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0.5% pass rate for those who did not cho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87% who completed groups passed the cour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9.6% of students ch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davidb@athabascau.ca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 for inf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dience awareness and how to adapt tone to suit occasion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one paragraph introducing your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a second paragraph discussing one aspect of your culture or commun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one article or excerpt from the discussion group reader that you intend to  discuss next mee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topic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of your planned posting for Discussion 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brief responses to your group members’ two paragrap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or Discussion 1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al style and tone adapted to the occasion and audi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9 – 12 sentences per paragrap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how to write a summary and (for essays with hard-to-find theses) how to use rhetorical analysis to infer a thes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critical think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logic and fallac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research methods and documentation styl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brief paragraph summarizing the read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substantive paragraph stating and explaining your critical respons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one secondary source to inform your discus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ocument your citation, and list the source at the end of your paragraph according to MLA or APA sty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summaries and critical respon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nnounce the controversy that you will be summarizing for discussion 3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a basic title as follows--  A Summary of “Title of Reading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judicious application of the “10 Steps to a Successful Summary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maximum length of 5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n effective title that expresses topic and controlling idea; length of at least 9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 strong opening sentence providing controlling idea and a sense of the reasons, to be discussed in the rest of the paragrap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suitable critical tone and style and observation of the 4 Fs of paragraph craf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 effective citation of one source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listing of the source at the end,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 and critical response: correct grammar, punctuation, and mechan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mmariz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inciples of argumen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rison structure to balance equally both sides of a controvers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Fs of 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earch and documentation method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1:09:36Z</dcterms:created>
  <dc:creator>davidb</dc:creator>
  <dc:description/>
  <dc:language>en-US</dc:language>
  <cp:lastModifiedBy>davidb</cp:lastModifiedBy>
  <dcterms:modified xsi:type="dcterms:W3CDTF">2007-09-18T19:59:20Z</dcterms:modified>
  <cp:revision>15</cp:revision>
  <dc:subject/>
  <dc:title>Critical Discussion Groups</dc:title>
</cp:coreProperties>
</file>