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1E6-644A-474E-9DFB-B22D6BC4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C9A-8879-47D4-BAD6-7984BB03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E07-C0A0-4977-A191-03D97842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343-4850-493B-88E5-D40CDE4E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B64-EB0A-40D1-801A-09BB0ED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060-6FB0-41DD-82F6-CB8D3BF2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C18-C5B1-4589-A42A-39B58B0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B82-B802-4207-B802-6C3E213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75A-73A7-40E7-9A58-A5FFD18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6BA-186A-4575-ADA9-8D7247E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A44-0841-4C72-B79A-4B65E86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807-8807-40B9-AD8E-D04A413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2B55-06CB-4FEE-BEAC-7DB5CCE7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gingforbeginners.pbwiki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77: ENGLISH FOR ACADEMIC 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177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lf-Way Ther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89: ENGLISH FO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89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ectronic Village Online (TES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ttp://academics.smcvt.edu/cbauer-ramazani/TESOL/EVOL/port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logging4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ingforbeginners.pbwik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lideshare.net/ClaudiaB/podomatic-create-or-upload-audio-files-and-post-them-to-your-b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idget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students with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ows for increas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mits mini-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a wide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s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s specif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fferent format than most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 chronological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ekly participato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bar for course related information, resources, and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ter for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 140: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40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b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ule/Assignme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mba/Mini-Less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21T16:00:28Z</dcterms:modified>
  <cp:revision>11</cp:revision>
  <dc:subject/>
  <dc:title>E-TOOLS AND TEACHING ESL THROUGH DISTANCE EDUCATION</dc:title>
</cp:coreProperties>
</file>