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21F-793F-4EDF-BBD8-4C348EB1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EFC-F53D-496A-829A-27B0B7E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50B-E6ED-48F3-A204-DC14C456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E31-9E62-416B-894A-DCC39332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2A7-AC24-42AC-9A98-450383EE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EFC-A128-4D4E-846D-4D510FF9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74D-1BA8-4461-8525-D5553AD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187-F58F-481C-94A0-6C70B96D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FF2-05F2-40FB-9C2E-EAD07D00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27F-4E18-4569-8C39-60520F4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28C-DD71-459A-BD87-D769EE4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0F8-A6F2-4D7D-9D7D-40CEF3B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AEFC-331A-4AE9-BABE-CFE1D5781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gingforbeginners.pbwiki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77: ENGLISH FOR ACADEMIC 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177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lf-Way Ther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89: ENGLISH FOR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89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lectronic Village Online (TES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ttp://academics.smcvt.edu/cbauer-ramazani/TESOL/EVOL/portal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logging4Beg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gingforbeginners.pbwik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lideshare.net/ClaudiaB/podomatic-create-or-upload-audio-files-and-post-them-to-your-b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idget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students with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ows for increase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mits mini-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a wide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eps studen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s specific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fferent format than most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 chronological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ekly participato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de bar for course related information, resources, and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ter for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GL 140: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40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b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ule/Assignme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o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mba/Mini-Less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21T16:00:28Z</dcterms:modified>
  <cp:revision>11</cp:revision>
  <dc:subject/>
  <dc:title>E-TOOLS AND TEACHING ESL THROUGH DISTANCE EDUCATION</dc:title>
</cp:coreProperties>
</file>