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00D9-C002-4D70-8928-9352AC3C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3D07-19A0-496E-A521-0BEEF67A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E8EF-04AD-493E-84FB-C8D91F68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EA98-E0E8-4DDE-946E-EDE323AA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C56A-A933-4AFC-84F6-F3BE02D2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6C68-DEBF-4E02-A84F-A0EA4C11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4567-7461-4DAC-84DC-B1692A1A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4F40-F11F-4120-8E6A-4D9EE959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3790-6E24-4265-BBD2-031FB118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C3E4-B67B-48A6-B7A4-A82E61D0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B7A7-455A-40A0-86B3-79C3A9EB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622F-EC51-4FD6-AA3A-06453953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AC6B-7B11-4912-8674-4E521862F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loggingforbeginners.pbwiki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veronica@athabascau.ca" TargetMode="External"/><Relationship Id="rId2" Type="http://schemas.openxmlformats.org/officeDocument/2006/relationships/hyperlink" Target="mailto:corinneb@athabascau.ca" TargetMode="External"/><Relationship Id="rId3" Type="http://schemas.openxmlformats.org/officeDocument/2006/relationships/hyperlink" Target="mailto:debrah@athabascau.ca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8469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-TOOLS AND TEACHING ESL THROUGH DISTANCE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Veronica Ba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rinne Bo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bra 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unde Tu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HABASC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ENGL 177: ENGLISH FOR ACADEMIC PURPO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engl177blog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active Activ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ntence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mmar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ntence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alf-Way Ther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ENGL 189: ENGLISH FOR BUS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english189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active Activ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mmar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in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The N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lectronic Village Online (TES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ttp://academics.smcvt.edu/cbauer-ramazani/TESOL/EVOL/portal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logging4Begin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loggingforbeginners.pbwiki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slideshare.net/ClaudiaB/podomatic-create-or-upload-audio-files-and-post-them-to-your-blo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idgets.yahoo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troductions and backgrou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odle—a Learning Managem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ice/ Video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VOIP systems, Ellu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scussion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lo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ree writing, Interactive exerc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llaborative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eer Editing, Wik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’s Ne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-learning, e-portfolios, digital story telling, Me2U, facebook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Veronica Baig, Academic Coordinator, English Languag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ronica@athabascau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rinne Bo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é, Instructional Media An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"/>
              </a:rPr>
              <a:t>corinneb@athabascau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bra Hoven, Associate Professor, Centre for Distance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"/>
              </a:rPr>
              <a:t>debrah@athabascau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nde Tuzes, Write Site Facilitator/Engl 255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ndet@athabascu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Background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thabasca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 Canada’s largest, and most flexible, open and distance education provider. More than 37,000 students are studying undergraduate courses and approximately 3,200 students are enrolled in graduate degre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U Calen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LS/ESL/ WRITING/TES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6 ESL/ELS courses all at the preparatory le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4 are zero credit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 may be taken for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 Writing courses—non-ESL but with ES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 preparatory—possible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 first year—full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raduate students in MAIS and CDE who have an interest in TESL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OME DICHOTOM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ndergraduate (including prepara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dividual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ynchronous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net 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du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aced, cohort based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ynchronous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net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Y BL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vides students with a sense of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lows for increased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ermits mini-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vides a wider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eeps students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actices specific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LS BL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fferent format than most b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a chronological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urse annou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ekly participator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de bar for course related information, resources, and mini-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oter for mini-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GL 140: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english140blog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active activ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Grammar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xam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ntence Com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ideb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dule/Assignment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o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imba/Mini-Lessons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6:41:11Z</dcterms:created>
  <dc:creator>Veronica Baig</dc:creator>
  <dc:description/>
  <dc:language>en-US</dc:language>
  <cp:lastModifiedBy>Veronica Baig</cp:lastModifiedBy>
  <dcterms:modified xsi:type="dcterms:W3CDTF">2008-05-21T16:00:28Z</dcterms:modified>
  <cp:revision>11</cp:revision>
  <dc:subject/>
  <dc:title>E-TOOLS AND TEACHING ESL THROUGH DISTANCE EDUCATION</dc:title>
</cp:coreProperties>
</file>