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CF4-7A00-47E0-AF73-140E2BD5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8F9-E86A-4B2D-9F63-4C453539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156-2F84-44F7-9603-E1BB868F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E37-71DC-4801-859B-D7A45359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FBD-165A-4992-8693-C5544C46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294-3DB3-4185-B5CB-247CA5B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52A-6649-4A82-B45A-C7446042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A7F-3441-4CFB-8CEE-3CE9C72A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530-A92F-4BD5-9518-48A83D7B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074-5727-4312-896F-5F5A409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329-B396-4265-82BD-5E1373E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258-EE45-42ED-8C0B-8C1F24F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B633-8412-4AE6-90CB-CA6706EF8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gingforbeginners.pbwiki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77: ENGLISH FOR ACADEMIC 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177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nten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lf-Way Ther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NGL 189: ENGLISH FOR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89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lectronic Village Online (TES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ttp://academics.smcvt.edu/cbauer-ramazani/TESOL/EVOL/portal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logging4Beg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gingforbeginners.pbwik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lideshare.net/ClaudiaB/podomatic-create-or-upload-audio-files-and-post-them-to-your-b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idget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students with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ows for increase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mits mini-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s a wide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eps studen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s specific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fferent format than most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 chronological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ekly participato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de bar for course related information, resources, and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ter for mini-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GL 140: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glish140blog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act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ramma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b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ule/Assignme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o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mba/Mini-Less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21T16:00:28Z</dcterms:modified>
  <cp:revision>11</cp:revision>
  <dc:subject/>
  <dc:title>E-TOOLS AND TEACHING ESL THROUGH DISTANCE EDUCATION</dc:title>
</cp:coreProperties>
</file>