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C91A-161C-4624-804E-463A6B5C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E43E-D09B-4EF8-A589-3486127D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042A-86B4-43D3-BE3F-5A917561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3964-6EF6-4764-85D2-7ECA232F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36B1-A56A-41B5-81D0-D8287705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C695-056B-4C2B-8EEE-25B112A4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163E-130F-415F-916D-B0DF52A1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3095-C78D-49EE-B9B5-578C24DF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ED1A-725D-4113-AD7C-B73F2914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674-FD43-4A0E-A98C-919ECE09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CAAA-149B-4E66-BA64-594CACF9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5F6-44B3-43A0-A2BD-C62B2FCA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5677-598E-4516-8478-79BA2155E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veronica@athabascau.ca" TargetMode="External"/><Relationship Id="rId2" Type="http://schemas.openxmlformats.org/officeDocument/2006/relationships/hyperlink" Target="mailto:corinneb@athabascau.ca" TargetMode="External"/><Relationship Id="rId3" Type="http://schemas.openxmlformats.org/officeDocument/2006/relationships/hyperlink" Target="mailto:debrah@athabascau.ca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8469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-TOOLS AND TEACHING ESL THROUGH DISTANCE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Veronica Ba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rinne Bo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bra 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unde Tu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HABASC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troductions and backgrou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odle—a Learning Managem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ice/ Video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VOIP systems, Ellu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scussion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l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ree writing, Interactive exerc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llaborativ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eer Editing, Wi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’s Ne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-learning, e-portfolios, digital story telling, Me2U, facebook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eronica Baig, Academic Coordinator, English Languag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ronica@athabasca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rinne Bo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é, Instructional Media An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"/>
              </a:rPr>
              <a:t>corinneb@athabasca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bra Hoven, Associate Professor, Centre for Distanc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"/>
              </a:rPr>
              <a:t>debrah@athabasca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nde Tuzes, Write Site Facilitator/Engl 255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ndet@athabasc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thabasca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Canada’s largest, and most flexible, open and distance education provider. More than 37,000 students are studying undergraduate courses and approximately 3,200 students are enrolled in graduate degre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U Calen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LS/ESL/ WRITING/TES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6 ESL/ELS courses all at the preparatory le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4 are zero credit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 may be taken for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 Writing courses—non-ESL but with ES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 preparatory—possible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 first year—full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raduate students in MAIS and CDE who have an interest in TESL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OME DICHOTOM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dergraduate (including prepara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dividual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ynchronous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et 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du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ced, cohort based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nchronous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et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6:41:11Z</dcterms:created>
  <dc:creator>Veronica Baig</dc:creator>
  <dc:description/>
  <dc:language>en-US</dc:language>
  <cp:lastModifiedBy>Veronica Baig</cp:lastModifiedBy>
  <dcterms:modified xsi:type="dcterms:W3CDTF">2008-05-16T20:28:09Z</dcterms:modified>
  <cp:revision>4</cp:revision>
  <dc:subject/>
  <dc:title>E-TOOLS AND TEACHING ESL THROUGH DISTANCE EDUCATION</dc:title>
</cp:coreProperties>
</file>