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F45-4D6B-4996-9EAA-5446BBD7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57C-B995-4BED-828D-C1FE8701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010-121E-4632-8AE6-71AB7D92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1CA-4A17-481A-B7A0-B9959123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C0A-C5E0-4FCE-A660-67C241A3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D16-1C86-4A7B-B1E5-C57DFC6D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F25-FD6A-423B-99BF-E56F2E11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792-AA33-4F1B-9D5E-C80F7BC2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A9E-3719-4057-9138-8FD1621A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28B-5D64-4AE8-B4B7-9E53AE0D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44B-7A1A-4128-ABB0-611D173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5A1-4543-424C-AD37-44D53ED4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B433-0607-4F40-AC8F-9316186C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eronica@athabascau.ca" TargetMode="External"/><Relationship Id="rId2" Type="http://schemas.openxmlformats.org/officeDocument/2006/relationships/hyperlink" Target="mailto:corinneb@athabascau.ca" TargetMode="External"/><Relationship Id="rId3" Type="http://schemas.openxmlformats.org/officeDocument/2006/relationships/hyperlink" Target="mailto:debrah@athabascau.ca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TOOLS AND TEACHING ESL THROUGH DISTANCE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eronica B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HABASC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s and 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odle—a Learning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ice/ Video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IP systems, E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cussion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ee writing, Interactive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eer Editing, 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’s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-learning, e-portfolios, digital story telling, Me2U, faceboo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onica Baig, Academic Coordinator, English Languag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onica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, Instructional Media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corinneb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, Associate Professor, Centre for Dista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debrah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, Write Site Facilitator/Engl 255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t@athabasc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habasc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Canada’s largest, and most flexible, open and distance education provider. More than 37,000 students are studying undergraduate courses and approximately 3,200 students are enrolled in graduate degre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U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/ESL/ WRITING/TE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 ESL/ELS courses all at the preparatory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are zero credit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may be taken for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Writing courses—non-ESL but with ES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preparatory—possible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first year—ful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aduate students in MAIS and CDE who have an interest in TES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OME DICHOTO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(including prepara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dividual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u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ced, cohort base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41:11Z</dcterms:created>
  <dc:creator>Veronica Baig</dc:creator>
  <dc:description/>
  <dc:language>en-US</dc:language>
  <cp:lastModifiedBy>Veronica Baig</cp:lastModifiedBy>
  <dcterms:modified xsi:type="dcterms:W3CDTF">2008-05-16T20:28:09Z</dcterms:modified>
  <cp:revision>4</cp:revision>
  <dc:subject/>
  <dc:title>E-TOOLS AND TEACHING ESL THROUGH DISTANCE EDUCATION</dc:title>
</cp:coreProperties>
</file>