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60D-F81C-47B8-9FF8-C82DF7FB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D6E-0C91-48A0-885C-5763A14F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6A4-CED4-4116-BA8B-5A425038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CB1-3CE4-44A5-B29E-7560FA12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318-CBCE-417A-8A8C-8827C28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D89-33AE-4708-BC0E-8BF7928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906-63FE-4F09-AA1D-95A25448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E37-E430-4A4D-A74D-F2A9BDDF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18B-330F-48AE-AEC3-64C41E1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DCD-A73E-47D1-91D7-C1E1E23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C5B-B258-4746-AE34-961C3A1D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4BC-22E1-465A-B3C8-A601749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1CF-B7DE-4B7F-BC32-13F4597A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16T20:28:09Z</dcterms:modified>
  <cp:revision>4</cp:revision>
  <dc:subject/>
  <dc:title>E-TOOLS AND TEACHING ESL THROUGH DISTANCE EDUCATION</dc:title>
</cp:coreProperties>
</file>