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1E1B-2C62-4A00-9D1B-5F1D96A1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FB6-1946-4997-B8F2-BE352B04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3B6-BE53-4E81-A1E2-B12BAE96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349-79F7-43EC-9C00-CEE18011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61D-99B8-4E3B-B50A-41C47F5E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823-5E28-4C5B-AFCA-0D92E3D1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92E-3231-4261-A58B-DA340E9C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7CF-FF96-433C-81D9-4A67D690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D1A-A4F3-48AE-866B-179A6833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91D8-D9EB-462F-AECB-49E4F911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80A-3D5E-4638-AC85-83911505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E2E-6353-4016-B1D9-56537AAD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D077-4593-4D75-8E2F-A982119A7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veronica@athabascau.ca" TargetMode="External"/><Relationship Id="rId2" Type="http://schemas.openxmlformats.org/officeDocument/2006/relationships/hyperlink" Target="mailto:corinneb@athabascau.ca" TargetMode="External"/><Relationship Id="rId3" Type="http://schemas.openxmlformats.org/officeDocument/2006/relationships/hyperlink" Target="mailto:debrah@athabascau.ca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69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-TOOLS AND TEACHING ESL THROUGH DISTANCE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eronica Ba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ra 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unde Tu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HABASC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roductions and 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odle—a Learning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ice/ Video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OIP systems, Ellu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cussion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ree writing, Interactive exerc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llabora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eer Editing, 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’s N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-learning, e-portfolios, digital story telling, Me2U, facebook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onica Baig, Academic Coordinator, English Languag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ronica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, Instructional Media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corinneb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bra Hoven, Associate Professor, Centre for Dista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debrah@athabasca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e Tuzes, Write Site Facilitator/Engl 255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et@athabascu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habasca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Canada’s largest, and most flexible, open and distance education provider. More than 37,000 students are studying undergraduate courses and approximately 3,200 students are enrolled in graduate degre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U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LS/ESL/ WRITING/TE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 ESL/ELS courses all at the preparatory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are zero credit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 may be taken for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Writing courses—non-ESL but with ES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preparatory—possible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first year—ful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aduate students in MAIS and CDE who have an interest in TESL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OME DICHOTOM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dergraduate (including prepara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dividual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ynchronous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et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u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ced, cohort based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e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41:11Z</dcterms:created>
  <dc:creator>Veronica Baig</dc:creator>
  <dc:description/>
  <dc:language>en-US</dc:language>
  <cp:lastModifiedBy>Veronica Baig</cp:lastModifiedBy>
  <dcterms:modified xsi:type="dcterms:W3CDTF">2008-05-16T20:28:09Z</dcterms:modified>
  <cp:revision>4</cp:revision>
  <dc:subject/>
  <dc:title>E-TOOLS AND TEACHING ESL THROUGH DISTANCE EDUCATION</dc:title>
</cp:coreProperties>
</file>