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ct" ContentType="image/x-pict"/>
  <Override PartName="/ppt/media/image7.png" ContentType="image/png"/>
  <Override PartName="/ppt/media/image6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21BF2-8CAB-4EA6-8BD3-31E3D57CD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1A31F-2EA3-4374-B931-7AC93CAD0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6D5D6-73DC-4CA6-9875-7D90DFCF9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7FAEC-94F9-4379-9192-A22DAA2E9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DDE7D-520C-4A20-A6D1-959E21D95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A3482-FAA9-4534-951A-D6D1B1CF7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BACC9-F009-49D5-9950-35E416AFB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B0353-ACE9-4526-BD78-58AA984B2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6FE72-E5AE-46F9-AE59-188B0E5CE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17F82-C680-47A3-8067-42DF0391D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55D30-B3B5-42FB-B58F-928FB4F81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146A4-312E-493A-B1AD-AFAE0B8BD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71CAA-7E7B-4F06-9B06-4D4E639F0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0063C-12DC-4010-B20E-6E180ED98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73139-6127-4473-90E1-EBB516290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20DEE-26E5-4A19-A126-51C1C3972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36590-F61F-4D53-865D-6848AA6BC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573E5-5AE2-4891-BCFF-97ACCFCAF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3E5D8-1066-4CB3-B805-2A515F2B5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36E6F-588E-4AEE-A8EB-68C761516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195CB-2E02-4C75-8397-99AC2A81C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948A4-2F00-4518-8B96-A09F69FD3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05DD8-48F3-4A4B-B67D-9E0AE2A85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C64CC-C20C-478E-AA7E-D4E09DF9E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1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152280" y="152280"/>
              <a:ext cx="152640" cy="152640"/>
            </a:xfrm>
            <a:prstGeom prst="rect">
              <a:avLst/>
            </a:prstGeom>
            <a:solidFill>
              <a:srgbClr val="ffe6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80880" y="152280"/>
              <a:ext cx="152640" cy="152640"/>
            </a:xfrm>
            <a:prstGeom prst="rect">
              <a:avLst/>
            </a:prstGeom>
            <a:solidFill>
              <a:srgbClr val="ffe6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152280" y="380880"/>
              <a:ext cx="152640" cy="152640"/>
            </a:xfrm>
            <a:prstGeom prst="rect">
              <a:avLst/>
            </a:prstGeom>
            <a:solidFill>
              <a:srgbClr val="ffe6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52280" y="609480"/>
              <a:ext cx="152640" cy="152640"/>
            </a:xfrm>
            <a:prstGeom prst="rect">
              <a:avLst/>
            </a:prstGeom>
            <a:solidFill>
              <a:srgbClr val="ffe6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609480" y="152280"/>
              <a:ext cx="152640" cy="152640"/>
            </a:xfrm>
            <a:prstGeom prst="rect">
              <a:avLst/>
            </a:prstGeom>
            <a:solidFill>
              <a:srgbClr val="ffe6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80880" y="380880"/>
              <a:ext cx="152640" cy="152640"/>
            </a:xfrm>
            <a:prstGeom prst="rect">
              <a:avLst/>
            </a:prstGeom>
            <a:solidFill>
              <a:srgbClr val="ffe6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" name="" descr=""/>
            <p:cNvPicPr/>
            <p:nvPr/>
          </p:nvPicPr>
          <p:blipFill>
            <a:blip r:embed="rId3"/>
            <a:stretch/>
          </p:blipFill>
          <p:spPr>
            <a:xfrm>
              <a:off x="3240" y="1828800"/>
              <a:ext cx="9140760" cy="23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utu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B5892-4E14-4923-96EA-9646224C7C7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1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utu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CFC95-A36E-4098-89DE-433C33DAF5D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pct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1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447920" y="1294920"/>
            <a:ext cx="7162560" cy="3048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Discourse of community formation at a distance </a:t>
            </a: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828800" y="4571640"/>
            <a:ext cx="6400800" cy="15238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SL 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covering discour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ncton, May 29-31 200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1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18960" y="151920"/>
            <a:ext cx="7543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ff"/>
                </a:solidFill>
                <a:latin typeface="Futura"/>
              </a:rPr>
              <a:t>Course outcomes:</a:t>
            </a: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447920" y="1447560"/>
            <a:ext cx="3016080" cy="464796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Proces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Self-refl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Self-evalu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Self-efficac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Independent inqui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Self-initi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Self-motiv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Peer evalu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Realization of usefulness of formation of community networ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181480" y="1447920"/>
            <a:ext cx="3492720" cy="396216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Produ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Webques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Online media-supported teaching modu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Wiki sit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Blo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Course-rela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Person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Tra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Post-course/ practition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1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839440" cy="1904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ff"/>
                </a:solidFill>
                <a:latin typeface="Futura"/>
              </a:rPr>
              <a:t>Social presence: effective interaction &amp; learning community formation </a:t>
            </a: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2640" y="3123720"/>
            <a:ext cx="7543800" cy="32274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No. &amp; frequency of interactions initi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No. &amp; frequency of responses to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Cultural effects on interactions *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Types of communication actions *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1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18960" y="151920"/>
            <a:ext cx="75438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ff"/>
                </a:solidFill>
                <a:latin typeface="Futura"/>
              </a:rPr>
              <a:t>Classification of postings</a:t>
            </a: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0" y="1143000"/>
          <a:ext cx="6019920" cy="5334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143000"/>
                    <a:ext cx="6019920" cy="53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0" name=""/>
          <p:cNvSpPr/>
          <p:nvPr/>
        </p:nvSpPr>
        <p:spPr>
          <a:xfrm>
            <a:off x="6324480" y="1066680"/>
            <a:ext cx="2590920" cy="5496840"/>
          </a:xfrm>
          <a:prstGeom prst="rect">
            <a:avLst/>
          </a:prstGeom>
          <a:solidFill>
            <a:srgbClr val="0081c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ff0000"/>
                </a:solidFill>
                <a:latin typeface="Tahoma"/>
              </a:rPr>
              <a:t>Supportiv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0000"/>
                </a:solidFill>
                <a:latin typeface="Tahoma"/>
              </a:rPr>
              <a:t>Supporti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0000"/>
                </a:solidFill>
                <a:latin typeface="Tahoma"/>
              </a:rPr>
              <a:t>Complimen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0000"/>
                </a:solidFill>
                <a:latin typeface="Tahoma"/>
              </a:rPr>
              <a:t>Empath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0000"/>
                </a:solidFill>
                <a:latin typeface="Tahoma"/>
              </a:rPr>
              <a:t>Ad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0000"/>
                </a:solidFill>
                <a:latin typeface="Tahoma"/>
              </a:rPr>
              <a:t>Informa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0000"/>
                </a:solidFill>
                <a:latin typeface="Tahoma"/>
              </a:rPr>
              <a:t>Thank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99"/>
                </a:solidFill>
                <a:latin typeface="Tahoma"/>
              </a:rPr>
              <a:t>Reflectiv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99"/>
                </a:solidFill>
                <a:latin typeface="Tahoma"/>
              </a:rPr>
              <a:t>Musi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99"/>
                </a:solidFill>
                <a:latin typeface="Tahoma"/>
              </a:rPr>
              <a:t>Complain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99"/>
                </a:solidFill>
                <a:latin typeface="Tahoma"/>
              </a:rPr>
              <a:t>Phot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377c04"/>
                </a:solidFill>
                <a:latin typeface="Tahoma"/>
              </a:rPr>
              <a:t>Transaction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377c04"/>
                </a:solidFill>
                <a:latin typeface="Tahoma"/>
              </a:rPr>
              <a:t>Help Reques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377c04"/>
                </a:solidFill>
                <a:latin typeface="Tahoma"/>
              </a:rPr>
              <a:t>Help givi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377c04"/>
                </a:solidFill>
                <a:latin typeface="Tahoma"/>
              </a:rPr>
              <a:t>Quer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853215"/>
                </a:solidFill>
                <a:latin typeface="Tahoma"/>
              </a:rPr>
              <a:t>Organization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853215"/>
                </a:solidFill>
                <a:latin typeface="Tahoma"/>
              </a:rPr>
              <a:t>Announcemen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1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200" spc="-1" strike="noStrike">
                <a:solidFill>
                  <a:srgbClr val="ffffff"/>
                </a:solidFill>
                <a:latin typeface="Futura"/>
              </a:rPr>
              <a:t>Features emerging from classification</a:t>
            </a:r>
            <a:endParaRPr b="0" lang="en-US" sz="42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51920" y="1874880"/>
            <a:ext cx="8991720" cy="45259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High incidence of supportive comments (1/3)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Complimenting, supporting, giving advice, thanking, empathiz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High incidence of reflective comment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Musing, photographs, complai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Much less transactional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Asking &amp; answering Qs, requesting &amp; receiving hel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Smallest category: organization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1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1920" y="380880"/>
            <a:ext cx="899172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ff"/>
                </a:solidFill>
                <a:latin typeface="Futura"/>
              </a:rPr>
              <a:t>Persistence of post-course blog use</a:t>
            </a: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5257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All but 1 posted on their blogs post-cour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&gt;50% maintained &amp; expanded theirs, creating others, &amp; using with own clas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&gt;30% maintained blog contact &amp; mentored subsequent cohor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Similar patterns across subsequent  semesters sho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Experience of being mentored seems to engender willingness to ment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Experience of becoming reflective, independent &amp; interdependent members of a community promotes willingness to support emerging independ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1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762120"/>
            <a:ext cx="8610480" cy="1295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utura"/>
              </a:rPr>
              <a:t>And now the story continues …</a:t>
            </a: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1371600" y="2743200"/>
            <a:ext cx="6400800" cy="17524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fully online mode 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r is it a different story?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1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838224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utura"/>
              </a:rPr>
              <a:t>New context, similar approach</a:t>
            </a: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8076960" cy="4724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transition fr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2f CALL Teacher Ed to 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lended/hybrid CALL Teacher Ed to 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ully online mix of CALL &amp; general DE to 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ully online DE Language Teacher Edu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1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6868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Futura"/>
              </a:rPr>
              <a:t>Online constraints &amp; considerations</a:t>
            </a:r>
            <a:endParaRPr b="0" lang="en-US" sz="4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599840" y="2286000"/>
            <a:ext cx="7543800" cy="32004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cultural asp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ography &amp; ac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imezo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propriate techn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1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520" y="685800"/>
            <a:ext cx="807696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utura"/>
              </a:rPr>
              <a:t>Tools made available 1 … /2</a:t>
            </a: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133360" y="2057400"/>
            <a:ext cx="5715000" cy="44956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ynchronous &amp; asynchronous CMC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od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cussion foru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 near-synchronous ch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k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logs (not used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mai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oIP (Skyp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luminate Li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luminate vRoo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1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520" y="685800"/>
            <a:ext cx="845820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utura"/>
              </a:rPr>
              <a:t>Tools made available 2 … /2</a:t>
            </a: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4400" y="2455560"/>
            <a:ext cx="7315200" cy="32446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structional technolog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overy/exploratory technolog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unity-facilitating technologies (Facebook, Me2U, Flickr, tagging applications, RSS et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1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utura"/>
              </a:rPr>
              <a:t>Contacts &amp; Links</a:t>
            </a: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609120" y="2209680"/>
            <a:ext cx="8153640" cy="381024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8900"/>
                </a:solidFill>
                <a:uFillTx/>
                <a:latin typeface="Arial"/>
              </a:rPr>
              <a:t>http://athabascauteslca.wikispaces.com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8900"/>
                </a:solidFill>
                <a:uFillTx/>
                <a:latin typeface="Arial"/>
              </a:rPr>
              <a:t>http://cde.athabascau.ca/faculty/debrah.ph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 u="sng">
                <a:solidFill>
                  <a:srgbClr val="ff8900"/>
                </a:solidFill>
                <a:uFillTx/>
                <a:latin typeface="Arial"/>
              </a:rPr>
              <a:t>http://deincanada.blogspot.com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8900"/>
                </a:solidFill>
                <a:uFillTx/>
                <a:latin typeface="Arial"/>
              </a:rPr>
              <a:t>http://lifentheuniverse.blogspot.c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8900"/>
                </a:solidFill>
                <a:uFillTx/>
                <a:latin typeface="Arial"/>
              </a:rPr>
              <a:t>debrah@athabascau.c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1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610480" cy="1828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utura"/>
              </a:rPr>
              <a:t>Beginning with a tale of 2 wikis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Futura"/>
              </a:rPr>
              <a:t> … &amp; 2 Moodles …</a:t>
            </a: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37720" y="2514600"/>
            <a:ext cx="7543800" cy="2286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ploratory learning - using the available tools for purposes that seem appropriate 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arning together 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1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61760" y="838080"/>
            <a:ext cx="75438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utura"/>
              </a:rPr>
              <a:t>Choices &amp; constraints 1 …/2</a:t>
            </a: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49080" y="2057040"/>
            <a:ext cx="6437160" cy="363996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dividual vs commun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ditional” personality of DE stud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ole of academic dialogue at Masters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pensity of language teachers to seek tools that facilitate communic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acilitation in DE environment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1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762120"/>
            <a:ext cx="75438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utura"/>
              </a:rPr>
              <a:t>Choices &amp; constraints 2 …/2</a:t>
            </a: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23520" y="1828800"/>
            <a:ext cx="624852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smatch betwee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quire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pectations (teacher &amp; learner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aching &amp; learning approaches (including intercultural aspect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sessment criter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sessment process (in transitio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209680" y="4724280"/>
            <a:ext cx="6019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3310"/>
                </a:solidFill>
                <a:latin typeface="Tahoma"/>
                <a:ea typeface="MS Pゴシック"/>
              </a:rPr>
              <a:t>What constitutes PARTICIPATION?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1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38224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utura"/>
              </a:rPr>
              <a:t>Collaborative Moodle wiki sites</a:t>
            </a: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90360" y="1980720"/>
            <a:ext cx="7086600" cy="43434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DE Moodle &amp; wik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ernal to cour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ssword protec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cked down by university adm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able to add guests or stud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1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28240" y="75960"/>
            <a:ext cx="8534520" cy="533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utura"/>
              </a:rPr>
              <a:t>CDE Moodle wiki site</a:t>
            </a: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143000" y="762120"/>
            <a:ext cx="6786720" cy="6019560"/>
          </a:xfrm>
          <a:prstGeom prst="rect">
            <a:avLst/>
          </a:prstGeom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1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534160" cy="533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utura"/>
              </a:rPr>
              <a:t>CDE Moodle wiki site</a:t>
            </a: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295280" y="914400"/>
            <a:ext cx="6477120" cy="5486400"/>
          </a:xfrm>
          <a:prstGeom prst="rect">
            <a:avLst/>
          </a:prstGeom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1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38224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utura"/>
              </a:rPr>
              <a:t>Collaborative Moodle &amp; wiki sites</a:t>
            </a: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8153280" cy="43434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ducation University of Icela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pen Mood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ssword protec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uests &amp; students added manual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8900"/>
                </a:solidFill>
                <a:uFillTx/>
                <a:latin typeface="Arial"/>
              </a:rPr>
              <a:t>http://moodle.khi.is/course/category.php?id=8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kispaces sites for student-student, student-teacher &amp; teacher-teacher collabo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8900"/>
                </a:solidFill>
                <a:uFillTx/>
                <a:latin typeface="Arial"/>
              </a:rPr>
              <a:t>http:</a:t>
            </a:r>
            <a:r>
              <a:rPr b="0" lang="en-US" sz="2800" spc="-1" strike="noStrike" u="sng">
                <a:solidFill>
                  <a:srgbClr val="ff8900"/>
                </a:solidFill>
                <a:uFillTx/>
                <a:latin typeface="Arial"/>
              </a:rPr>
              <a:t>//athabascakhi</a:t>
            </a:r>
            <a:r>
              <a:rPr b="0" lang="en-US" sz="2800" spc="-1" strike="noStrike" u="sng">
                <a:solidFill>
                  <a:srgbClr val="ff8900"/>
                </a:solidFill>
                <a:uFillTx/>
                <a:latin typeface="Arial"/>
              </a:rPr>
              <a:t>.</a:t>
            </a:r>
            <a:r>
              <a:rPr b="0" lang="en-US" sz="2800" spc="-1" strike="noStrike" u="sng">
                <a:solidFill>
                  <a:srgbClr val="ff8900"/>
                </a:solidFill>
                <a:uFillTx/>
                <a:latin typeface="Arial"/>
              </a:rPr>
              <a:t>wikispaces</a:t>
            </a:r>
            <a:r>
              <a:rPr b="0" lang="en-US" sz="2800" spc="-1" strike="noStrike" u="sng">
                <a:solidFill>
                  <a:srgbClr val="ff8900"/>
                </a:solidFill>
                <a:uFillTx/>
                <a:latin typeface="Arial"/>
              </a:rPr>
              <a:t>.com/Athabasc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1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534160" cy="533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utura"/>
              </a:rPr>
              <a:t>External wiki site</a:t>
            </a: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914400" y="914400"/>
            <a:ext cx="7315200" cy="5791320"/>
          </a:xfrm>
          <a:prstGeom prst="rect">
            <a:avLst/>
          </a:prstGeom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1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534160" cy="533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utura"/>
              </a:rPr>
              <a:t>External wiki site</a:t>
            </a: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295280" y="838080"/>
            <a:ext cx="6596280" cy="6019920"/>
          </a:xfrm>
          <a:prstGeom prst="rect">
            <a:avLst/>
          </a:prstGeom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1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800100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utura"/>
              </a:rPr>
              <a:t>Communications Technologies</a:t>
            </a: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981080" y="1904760"/>
            <a:ext cx="5943600" cy="48006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lluminate L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8900"/>
                </a:solidFill>
                <a:uFillTx/>
                <a:latin typeface="Arial"/>
              </a:rPr>
              <a:t>http://www.</a:t>
            </a:r>
            <a:r>
              <a:rPr b="0" lang="en-US" sz="2800" spc="-1" strike="noStrike" u="sng">
                <a:solidFill>
                  <a:srgbClr val="ff8900"/>
                </a:solidFill>
                <a:uFillTx/>
                <a:latin typeface="Arial"/>
              </a:rPr>
              <a:t>elluminate</a:t>
            </a:r>
            <a:r>
              <a:rPr b="0" lang="en-US" sz="2800" spc="-1" strike="noStrike" u="sng">
                <a:solidFill>
                  <a:srgbClr val="ff8900"/>
                </a:solidFill>
                <a:uFillTx/>
                <a:latin typeface="Arial"/>
              </a:rPr>
              <a:t>.com/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lluminate vRoo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8900"/>
                </a:solidFill>
                <a:uFillTx/>
                <a:latin typeface="Arial"/>
              </a:rPr>
              <a:t>http://www.</a:t>
            </a:r>
            <a:r>
              <a:rPr b="0" lang="en-US" sz="2400" spc="-1" strike="noStrike" u="sng">
                <a:solidFill>
                  <a:srgbClr val="ff8900"/>
                </a:solidFill>
                <a:uFillTx/>
                <a:latin typeface="Arial"/>
              </a:rPr>
              <a:t>elluminate</a:t>
            </a:r>
            <a:r>
              <a:rPr b="0" lang="en-US" sz="2400" spc="-1" strike="noStrike" u="sng">
                <a:solidFill>
                  <a:srgbClr val="ff8900"/>
                </a:solidFill>
                <a:uFillTx/>
                <a:latin typeface="Arial"/>
              </a:rPr>
              <a:t>.com/vroom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kyp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8900"/>
                </a:solidFill>
                <a:uFillTx/>
                <a:latin typeface="Arial"/>
              </a:rPr>
              <a:t>http://skype.com/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Zi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8900"/>
                </a:solidFill>
                <a:uFillTx/>
                <a:latin typeface="Arial"/>
              </a:rPr>
              <a:t>http://www.wiziq.com/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mDi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8900"/>
                </a:solidFill>
                <a:uFillTx/>
                <a:latin typeface="Arial"/>
              </a:rPr>
              <a:t>http://www.dimdim.com/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1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utura"/>
              </a:rPr>
              <a:t>Previously …</a:t>
            </a: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Community formation 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Across semes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Across cultu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From novice to expe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From receiver to reflec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From learner to practitioner to men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1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utura"/>
              </a:rPr>
              <a:t>Changing roles</a:t>
            </a: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flective practi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delling processes &amp; practi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penn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llabo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goti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anging assessment practices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-Portfoli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1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utura"/>
              </a:rPr>
              <a:t>Some advice from my students</a:t>
            </a: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380880" y="990720"/>
            <a:ext cx="8458200" cy="5638680"/>
          </a:xfrm>
          <a:prstGeom prst="rect">
            <a:avLst/>
          </a:prstGeom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1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6868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utura"/>
              </a:rPr>
              <a:t>Critical differences in DE 1 …/2</a:t>
            </a: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51814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8900"/>
                </a:solidFill>
                <a:latin typeface="Arial"/>
              </a:rPr>
              <a:t>a necessity for lifelong lear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8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89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8900"/>
                </a:solidFill>
                <a:latin typeface="Arial"/>
              </a:rPr>
              <a:t>green”-er (x4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8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8900"/>
                </a:solidFill>
                <a:latin typeface="Arial"/>
              </a:rPr>
              <a:t>Accessibility &amp; openness (x5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8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8900"/>
                </a:solidFill>
                <a:latin typeface="Arial"/>
              </a:rPr>
              <a:t>centrality of CM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lexibility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mportance for lifestyle &amp; commit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reedom to design your own program &amp; courses according to intere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ccessibility, breaking down barriers &amp; reaching remote loca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utonomy in experience &amp; direction (x4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f both experience of learner &amp; direction of studies i.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lf-motiv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lf-designed courses &amp; progra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eeping up with advancements in technology (x3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1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6868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utura"/>
              </a:rPr>
              <a:t>Critical differences in DE 2 …/2</a:t>
            </a: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43000" y="1447560"/>
            <a:ext cx="7772400" cy="510516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8900"/>
                </a:solidFill>
                <a:latin typeface="Arial"/>
              </a:rPr>
              <a:t>multi-modal techniques to cultivate engagement (x2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ve from “compensation model” to “celebration model” (x3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83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8343"/>
                </a:solidFill>
                <a:latin typeface="Arial"/>
              </a:rPr>
              <a:t>DRAGON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ee834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e8343"/>
                </a:solidFill>
                <a:latin typeface="Arial"/>
              </a:rPr>
              <a:t>Diverse (many and different; distinct and unalik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ee834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e8343"/>
                </a:solidFill>
                <a:latin typeface="Arial"/>
              </a:rPr>
              <a:t>Requisites (anything indispensabl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ee834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e8343"/>
                </a:solidFill>
                <a:latin typeface="Arial"/>
              </a:rPr>
              <a:t>Accessing (obtain or retrieve from a storage device like information on a compu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ee834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e8343"/>
                </a:solidFill>
                <a:latin typeface="Arial"/>
              </a:rPr>
              <a:t>Global (not limited or provincial in scop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ee834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e8343"/>
                </a:solidFill>
                <a:latin typeface="Arial"/>
              </a:rPr>
              <a:t>Opportunities (a possibility due to a favourable combination of circumstanc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ee834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e8343"/>
                </a:solidFill>
                <a:latin typeface="Arial"/>
              </a:rPr>
              <a:t>Non-traditionally (not conforming or in accord with the considered norm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ee834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e8343"/>
                </a:solidFill>
                <a:latin typeface="Arial"/>
              </a:rPr>
              <a:t>Sustained (supply with necessities and suppor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1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1828440" y="1066320"/>
            <a:ext cx="5715000" cy="48006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mment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uggestion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dvic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1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0280" cy="213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"/>
              </a:rPr>
              <a:t>Debra Hoven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Futura"/>
              </a:rPr>
              <a:t>Centre for Distance Education,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Futura"/>
              </a:rPr>
              <a:t>Athabasca University</a:t>
            </a:r>
            <a:endParaRPr b="0" lang="en-US" sz="32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304560" y="2286000"/>
            <a:ext cx="8381880" cy="36576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8900"/>
                </a:solidFill>
                <a:uFillTx/>
                <a:latin typeface="Arial"/>
              </a:rPr>
              <a:t>http://athabascauteslca.wikispaces.com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8900"/>
                </a:solidFill>
                <a:uFillTx/>
                <a:latin typeface="Arial"/>
              </a:rPr>
              <a:t>http://cde.athabascau.ca/faculty/debrah.ph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 u="sng">
                <a:solidFill>
                  <a:srgbClr val="ff8900"/>
                </a:solidFill>
                <a:uFillTx/>
                <a:latin typeface="Arial"/>
              </a:rPr>
              <a:t>http://deincanada.blogspot.com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8900"/>
                </a:solidFill>
                <a:uFillTx/>
                <a:latin typeface="Arial"/>
              </a:rPr>
              <a:t>http://lifentheuniverse.blogspot.c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8900"/>
                </a:solidFill>
                <a:uFillTx/>
                <a:latin typeface="Arial"/>
              </a:rPr>
              <a:t>debrah@athabascau.c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d3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38224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ff"/>
                </a:solidFill>
                <a:latin typeface="Futura"/>
              </a:rPr>
              <a:t>Experiences of pedagogy</a:t>
            </a: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26744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Experiential learn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Task/project-based learn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Collaborative learn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Community of mutually-supportive reflective inquir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Extended community of experts-novi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Community of learner-practitioners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d3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7543800" cy="129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ff"/>
                </a:solidFill>
                <a:latin typeface="Futura"/>
              </a:rPr>
              <a:t>Social constructivism &amp; teacher change</a:t>
            </a: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2670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Self-reflection on beliefs &amp; valu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Exposure to cho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Experience of affordan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Consciousness of conflict/dysjunct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81cb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Exposure to modelling of effective uses of technolog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81cb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Experience &amp; practice in a range of application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81cb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facilitating change in attitudes/belief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Arial"/>
              </a:rPr>
              <a:t>(Richardson &amp; Placier, 2001; King, 2002; Bird &amp; Rosaen, 2005; Brook &amp; Oliver, 2005; Hughes, 2005)</a:t>
            </a: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1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7720" y="228600"/>
            <a:ext cx="7543800" cy="1295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ff"/>
                </a:solidFill>
                <a:latin typeface="Futura"/>
              </a:rPr>
              <a:t>Attitudes towards technology &amp; effective use of it</a:t>
            </a: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828440"/>
            <a:ext cx="8382240" cy="42670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ntwined with teacher learning, comprising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ubject matter knowled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pedagogical knowledge, and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pedagogical content knowled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n other words …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eachers will only embrace change and innovation when they can see positive benefits in terms of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direct relevance to their content are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usefulness from a practical task perspective, a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A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increased effectiveness for their day to day classroom teaching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(Hughes, 2005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1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52120" y="151920"/>
            <a:ext cx="5791320" cy="838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ff"/>
                </a:solidFill>
                <a:latin typeface="Futura"/>
              </a:rPr>
              <a:t>Tools used</a:t>
            </a: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229600" cy="53341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Webquests using SDSU portal &lt;http://www.webquest.org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Dreamweaver + online media &amp; resour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Hot Potatoes + various other online templating tools + med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Social communication/networking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Wiki – MediaWiki hosted on university server (www-viewabl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Individual blogs – Blogger (www-viewabl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I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Discussion foru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Ch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e-Portfoli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1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440" y="76320"/>
            <a:ext cx="838188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ff"/>
                </a:solidFill>
                <a:latin typeface="Futura"/>
              </a:rPr>
              <a:t>Expectations vs Use of SN Tools 1 .../2</a:t>
            </a:r>
            <a:r>
              <a:rPr b="0" lang="en-AU" sz="4400" spc="-1" strike="noStrike">
                <a:solidFill>
                  <a:srgbClr val="ffffff"/>
                </a:solidFill>
                <a:latin typeface="Futur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066320"/>
            <a:ext cx="3886200" cy="5257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Expect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Wik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for internal-remote collabor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ownershi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easily accessible from everywhere (where my students were located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Blo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ownershi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reflective spa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flexible (&amp; re-purpose-able) spa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extensible outside timelines of cour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90760" y="838080"/>
            <a:ext cx="4800600" cy="60199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U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Arial"/>
              </a:rPr>
              <a:t>Wik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Arial"/>
              </a:rPr>
              <a:t>Experimenting with the interfa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Arial"/>
              </a:rPr>
              <a:t>Group organization: sharing &amp; collabor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Arial"/>
              </a:rPr>
              <a:t>Hints &amp; tips (Q &amp; A, quick fixe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Arial"/>
              </a:rPr>
              <a:t>Interesting articles/sit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Arial"/>
              </a:rPr>
              <a:t>Posting projec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Arial"/>
              </a:rPr>
              <a:t>Blog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Arial"/>
              </a:rPr>
              <a:t>Refl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Arial"/>
              </a:rPr>
              <a:t>self-refl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Arial"/>
              </a:rPr>
              <a:t>peer evalu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Arial"/>
              </a:rPr>
              <a:t>Communic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Arial"/>
              </a:rPr>
              <a:t>mutual support &amp; feedbac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Arial"/>
              </a:rPr>
              <a:t>Community formation &amp; maintenan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Arial"/>
              </a:rPr>
              <a:t>Intera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Arial"/>
              </a:rPr>
              <a:t>Among members of single coho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Arial"/>
              </a:rPr>
              <a:t>Across continents &amp; ocean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Arial"/>
              </a:rPr>
              <a:t>Across semester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Arial"/>
              </a:rPr>
              <a:t>Across cultural &amp; social dysjunctur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1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76320"/>
            <a:ext cx="845820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ff"/>
                </a:solidFill>
                <a:latin typeface="Futura"/>
              </a:rPr>
              <a:t>Expectations vs Use of SN Tools 2 .../2</a:t>
            </a:r>
            <a:r>
              <a:rPr b="0" lang="en-AU" sz="4400" spc="-1" strike="noStrike">
                <a:solidFill>
                  <a:srgbClr val="ffffff"/>
                </a:solidFill>
                <a:latin typeface="Futur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6320" y="1066320"/>
            <a:ext cx="4038480" cy="5257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Expecta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Arial"/>
              </a:rPr>
              <a:t>I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Arial"/>
              </a:rPr>
              <a:t>for quick changes of pl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Arial"/>
              </a:rPr>
              <a:t>to check if onli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Arial"/>
              </a:rPr>
              <a:t>Discussion foru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Arial"/>
              </a:rPr>
              <a:t>formal course-related theoretical Qs &amp; respon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Arial"/>
              </a:rPr>
              <a:t>Ch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Arial"/>
              </a:rPr>
              <a:t>synchronous local &amp; international coordin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Arial"/>
              </a:rPr>
              <a:t>e-Portfoli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Arial"/>
              </a:rPr>
              <a:t>formal annotated electronic record of program documents, artefacts, achievem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267080" y="1066680"/>
            <a:ext cx="4724640" cy="54864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Arial"/>
              </a:rPr>
              <a:t>U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Arial"/>
              </a:rPr>
              <a:t>I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buClr>
                <a:srgbClr val="0081cb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Arial"/>
              </a:rPr>
              <a:t>Notification of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buClr>
                <a:srgbClr val="0081cb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Arial"/>
              </a:rPr>
              <a:t>Latenes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buClr>
                <a:srgbClr val="0081cb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Arial"/>
              </a:rPr>
              <a:t>chat ent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buClr>
                <a:srgbClr val="0081cb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Arial"/>
              </a:rPr>
              <a:t>new pos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Arial"/>
              </a:rPr>
              <a:t>Discussion Foru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Arial"/>
              </a:rPr>
              <a:t>Formal course evalu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Arial"/>
              </a:rPr>
              <a:t>Formal comments on the course &amp; projec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0" lang="en-AU" sz="1600" spc="-1" strike="noStrike">
                <a:solidFill>
                  <a:srgbClr val="ffffff"/>
                </a:solidFill>
                <a:latin typeface="Arial"/>
              </a:rPr>
              <a:t>in response to instructor’s posting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Arial"/>
              </a:rPr>
              <a:t>Cha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buClr>
                <a:srgbClr val="0081cb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Arial"/>
              </a:rPr>
              <a:t>synchronous remote/ internal communication on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buClr>
                <a:srgbClr val="0081cb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Arial"/>
              </a:rPr>
              <a:t>Discuss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buClr>
                <a:srgbClr val="0081cb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Arial"/>
              </a:rPr>
              <a:t>catch-u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buClr>
                <a:srgbClr val="0081cb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Arial"/>
              </a:rPr>
              <a:t>Socializin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buClr>
                <a:srgbClr val="0081cb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Arial"/>
              </a:rPr>
              <a:t>course-related transaction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Arial"/>
              </a:rPr>
              <a:t>E-Portfoli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buClr>
                <a:srgbClr val="0081cb"/>
              </a:buClr>
              <a:buFont typeface="Helvetic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Arial"/>
              </a:rPr>
              <a:t>Created but hardly (yet) us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buClr>
                <a:srgbClr val="0081cb"/>
              </a:buClr>
              <a:buFont typeface="Helvetic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Arial"/>
              </a:rPr>
              <a:t>Possibly because of formal nature cf digital stori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7T20:12:36Z</dcterms:created>
  <dc:creator>DebraH</dc:creator>
  <dc:description/>
  <dc:language>en-US</dc:language>
  <cp:lastModifiedBy>DebraH</cp:lastModifiedBy>
  <dcterms:modified xsi:type="dcterms:W3CDTF">2008-05-31T18:30:57Z</dcterms:modified>
  <cp:revision>7</cp:revision>
  <dc:subject/>
  <dc:title>PowerPoint Presentation</dc:title>
</cp:coreProperties>
</file>