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F6F-D3CA-46A3-B2C5-E1156A03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2D1-EA5C-4B5B-A62F-FEF81D68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1B6-1E29-459E-B2DA-EFB2F32D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DAD-7AA7-4219-B81D-52E1DB04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E4F-0DDA-4182-9C80-BFD8CB8D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0446-2D08-4141-BE24-1BD60EFA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29C-8F5D-460C-992A-CCBE783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062-F625-46F8-9BF7-0439EF6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2AC-E5FD-4A34-A871-0B300B4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C938-DB0F-4E06-9E73-0B5707F0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1CFD-AB92-4A56-9854-BEFE526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288-82B3-44BB-8EA8-B76C8BE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8812-8428-4F66-AF25-33790FD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CF92-F8F9-4BF3-8E6F-8F8E04D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CC98-7468-497E-ACBA-23F1FEC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E14-0716-416D-884A-5A609EA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373-4300-4806-9940-B363D8FB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F63-9C22-4577-B96C-8582092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E19-F495-4ADC-AEAE-4EB92B1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C0A-E914-4ACC-B929-4364F872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6A5-A037-4E80-B0CA-9C57ED4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BBD-DDD2-4F76-A42B-C64C3A0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BDE-B0AE-41D1-BDCA-267A000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3FC-6CA4-4234-BA90-E857FBB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C12-D1E2-4B9F-87A9-7C02968F6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909-A817-4C61-B080-E2AD7BED63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1625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course of community formation at a distance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45716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L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ing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cton, May 29-31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ourse outcom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30160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ependent 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ini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alization of usefulness of formation of community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492720" cy="3962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line media-supported teaching mo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urse-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ost-course/ practiti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presence: effective interaction &amp; learning community formation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322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interactions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responses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ltural effects on interactions *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ypes of communication actions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lassification of posting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143000"/>
          <a:ext cx="6019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6019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324480" y="1066680"/>
            <a:ext cx="2590920" cy="5496840"/>
          </a:xfrm>
          <a:prstGeom prst="rect">
            <a:avLst/>
          </a:prstGeom>
          <a:solidFill>
            <a:srgbClr val="008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Tahoma"/>
              </a:rPr>
              <a:t>Suppor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Suppor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Compli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Em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Ad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Th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Tahoma"/>
              </a:rPr>
              <a:t>Refl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Mu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Compla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Pho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77c04"/>
                </a:solidFill>
                <a:latin typeface="Tahoma"/>
              </a:rPr>
              <a:t>Transac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gi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53215"/>
                </a:solidFill>
                <a:latin typeface="Tahoma"/>
              </a:rPr>
              <a:t>Organiz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53215"/>
                </a:solidFill>
                <a:latin typeface="Tahoma"/>
              </a:rPr>
              <a:t>Announ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Futura"/>
              </a:rPr>
              <a:t>Features emerging from classification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874880"/>
            <a:ext cx="89917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supportive comments (1/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limenting, supporting, giving advice, thanking, empath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reflective com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using, photographs, compl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ch less transact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ing &amp; answering Qs, requesting &amp; receiving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st category: organiz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Persistence of post-course blog us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 but 1 posted on their blogs post-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50% maintained &amp; expanded theirs, creating others, &amp; using with own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30% maintained blog contact &amp; mentored subsequent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 patterns across subsequent  semesters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ing mentored seems to engender willingness to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coming reflective, independent &amp; interdependent members of a community promotes willingness to support emerging 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And now the story continu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ully online mod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s it a different story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ew context, similar approach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ransi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f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/hybrid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mix of CALL &amp; general DE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DE Language Teach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Online constraints &amp; considerations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7543800" cy="3200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ultur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 &amp;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z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1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7150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&amp; asynchronous CM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d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near-synchronous 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s (not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P (Sky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2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455560"/>
            <a:ext cx="7315200" cy="324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/exploratory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facilitating technologies (Facebook, Me2U, Flickr, tagging applications, RS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ntacts &amp; Link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Beginning with a tale of 2 wik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 … &amp; 2 Moodl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54380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learning - using the available tools for purposes that seem appropriat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ogether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9080" y="2057040"/>
            <a:ext cx="6437160" cy="3639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v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” personality of D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academic dialogue at Master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of language teachers to seek tools that facilitat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ion in DE environ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248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s (teacher &amp; lear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&amp; learning approaches (including intercultural asp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process (in tran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724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3310"/>
                </a:solidFill>
                <a:latin typeface="Tahoma"/>
                <a:ea typeface="MS Pゴシック"/>
              </a:rPr>
              <a:t>What constitutes PARTICIP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E Moodle &amp;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to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d down by university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dd guests 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86720" cy="6019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&amp;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University of Ic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oo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s &amp; students added ma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moodle.khi.is/course/category.php?id=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spaces sites for student-student, student-teacher &amp; teacher-teacher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//athabascakhi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wikispaces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Athab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791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96280" cy="6019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mmunications Technologi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9436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.com/v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skyp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Zi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wiziq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D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dimdim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Previously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unity form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novice to 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receiver to ref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learner to practitioner to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anging rol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v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ling processes &amp;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assessment practi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ome advice from my student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 necessity for lifelong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green”-er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ccessibility &amp; openness (x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centrality of CM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for lifestyle &amp; commi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dom to design your own program &amp; courses according to inte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ibility, breaking down barriers &amp; reaching remot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y in experience &amp; direction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oth experience of learner &amp; direction of studies i.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designed courses &amp;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ing up with advancements in technology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8900"/>
                </a:solidFill>
                <a:latin typeface="Arial"/>
              </a:rPr>
              <a:t>multi-modal techniques to cultivate engagement (x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from “compensation model” to “celebration model”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83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8343"/>
                </a:solidFill>
                <a:latin typeface="Arial"/>
              </a:rPr>
              <a:t>DRAG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Diverse (many and different; distinct and unal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Requisites (anything indispens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Accessing (obtain or retrieve from a storage device like information on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Global (not limited or provincial in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Opportunities (a possibility due to a favourable combination of circumst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Non-traditionally (not conforming or in accord with the considered n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Sustained (supply with necessities and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57150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Debra Hov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entre for Distance Educatio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Athabasca University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Experiences of pedagog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erienti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k/project-bas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mutually-supportive reflective inqui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tended community of experts-no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learner-practitioner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constructivism &amp; teacher chang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lf-reflection on beliefs &amp;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afford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ciousness of conflict/dysjun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modelling of effective uses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&amp; practice in a range of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acilitating change in attitudes/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Richardson &amp; Placier, 2001; King, 2002; Bird &amp; Rosaen, 2005; Brook &amp; Oliver, 2005; Hughes, 2005)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Attitudes towards technology &amp; effective use of i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wined with teacher learning, compr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bject matt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knowledg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content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other words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achers will only embrace change and innovation when they can see positive benefi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rect relevance to their content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ness from a practical task perspective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effectiveness for their day to day classroom te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Hughes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5791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Tools use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ebquests using SDSU portal &lt;http://www.webquest.org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reamweaver + online media &amp;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t Potatoes + various other online templating tools +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cial communication/networ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ki – MediaWiki hosted on university serv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dividual blogs – Blogg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1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internal-remote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asily accessible from everywhere (where my students were loc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flectiv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exible (&amp; re-purpose-able)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tensible outside timelines of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0760" y="838080"/>
            <a:ext cx="48006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xperimenting with the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roup organization: sharing &amp; 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ints &amp; tips (Q &amp; A, quick fix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esting articles/s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ting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utual support &amp;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ty formation &amp;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ong members of single coh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ontinents &amp; oce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ultural &amp; social dysjunct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2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403848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 quick changes of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heck if on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course-related theoretical Qs &amp;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ynchronous local &amp; internation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annotated electronic record of program documents, artefacts, achie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67080" y="1066680"/>
            <a:ext cx="472464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otification of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t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 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w p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urs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mments on the course &amp;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 response to instructor’s pos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ynchronous remote/ internal communication o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tch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ocializ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urse-related trans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reated but hardly (yet)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sibly because of formal nature cf digital s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0:12:36Z</dcterms:created>
  <dc:creator>DebraH</dc:creator>
  <dc:description/>
  <dc:language>en-US</dc:language>
  <cp:lastModifiedBy>DebraH</cp:lastModifiedBy>
  <dcterms:modified xsi:type="dcterms:W3CDTF">2008-05-31T18:30:57Z</dcterms:modified>
  <cp:revision>7</cp:revision>
  <dc:subject/>
  <dc:title>PowerPoint Presentation</dc:title>
</cp:coreProperties>
</file>