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158-1174-480F-955D-348F7FE2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020-AE70-4256-8E2A-87AC75D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B3D-661D-4AFA-82BD-3A300F8A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4D4-9DEA-4DCD-8F2C-9731CD35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5D97-5272-4916-A9E4-9931C42E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124-7FD7-466F-895C-5BF3CD1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0EE3-4C8A-40B6-B497-770F2046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BC88-9CAD-4E88-B179-1DCD6E26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31BB-2D44-4A20-847D-33424687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D497-4DFC-426D-9C38-C1726652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C88-E08F-4804-823F-671704C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A59-6C62-4F8F-9A15-F6723FB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5CC0-E09B-47F1-AD55-F1710E4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78A0-FC07-42B1-BBC9-0059307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CE38-74CC-4592-8747-4F21FA7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DC2-7221-448E-8761-7BBD0C6D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7576-ED12-4976-B9F9-FD531C4F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E45-74A5-472E-9B81-65D44FBD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4F3-576A-4C03-AAF4-F5088085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6ED-D05A-4268-AA9A-50510D7B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0D1-7179-4434-8EBC-FE8495C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D33-C224-4DCC-BBAE-C50A44D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424-6FFF-40D9-BBA6-393AB0A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689-B653-4A72-936D-F1709E2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6A3-B2F2-4BA6-8538-244D233C2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100-25FE-4228-95D4-F459A59D4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1625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course of community formation at a distance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45716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L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ing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cton, May 29-31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ourse outcom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30160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ependent 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init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alization of usefulness of formation of community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492720" cy="3962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line media-supported teaching mo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urse-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ost-course/ practiti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presence: effective interaction &amp; learning community formation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322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interactions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. &amp; frequency of responses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ltural effects on interactions *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ypes of communication actions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Classification of posting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143000"/>
          <a:ext cx="6019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6019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324480" y="1066680"/>
            <a:ext cx="2590920" cy="5496840"/>
          </a:xfrm>
          <a:prstGeom prst="rect">
            <a:avLst/>
          </a:prstGeom>
          <a:solidFill>
            <a:srgbClr val="0081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Tahoma"/>
              </a:rPr>
              <a:t>Suppor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Suppor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Compli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Em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Ad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Than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Tahoma"/>
              </a:rPr>
              <a:t>Refl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Mu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Compla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Tahoma"/>
              </a:rPr>
              <a:t>Pho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77c04"/>
                </a:solidFill>
                <a:latin typeface="Tahoma"/>
              </a:rPr>
              <a:t>Transac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Help gi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77c04"/>
                </a:solidFill>
                <a:latin typeface="Tahoma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53215"/>
                </a:solidFill>
                <a:latin typeface="Tahoma"/>
              </a:rPr>
              <a:t>Organiz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53215"/>
                </a:solidFill>
                <a:latin typeface="Tahoma"/>
              </a:rPr>
              <a:t>Announ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Futura"/>
              </a:rPr>
              <a:t>Features emerging from classification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874880"/>
            <a:ext cx="89917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supportive comments (1/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limenting, supporting, giving advice, thanking, empath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incidence of reflective com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using, photographs, compl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ch less transact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king &amp; answering Qs, requesting &amp; receiving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st category: organiz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Persistence of post-course blog us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 but 1 posted on their blogs post-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50% maintained &amp; expanded theirs, creating others, &amp; using with own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&gt;30% maintained blog contact &amp; mentored subsequent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 patterns across subsequent  semesters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ing mentored seems to engender willingness to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becoming reflective, independent &amp; interdependent members of a community promotes willingness to support emerging 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And now the story continu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ully online mod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s it a different story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ew context, similar approach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ransi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2f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/hybrid CALL Teacher Ed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mix of CALL &amp; general DE to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nline DE Language Teach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Online constraints &amp; considerations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7543800" cy="3200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ultur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 &amp;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z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1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7150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&amp; asynchronous CM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d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 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near-synchronous 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s (not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P (Sky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ools made available 2 … 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455560"/>
            <a:ext cx="7315200" cy="324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/exploratory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facilitating technologies (Facebook, Me2U, Flickr, tagging applications, RS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ntacts &amp; Link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Beginning with a tale of 2 wik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 … &amp; 2 Moodles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54380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learning - using the available tools for purposes that seem appropriat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ogether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9080" y="2057040"/>
            <a:ext cx="6437160" cy="3639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v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” personality of D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academic dialogue at Masters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of language teachers to seek tools that facilitat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ion in DE environ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oices &amp; constraints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248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ations (teacher &amp; lear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&amp; learning approaches (including intercultural asp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process (in tran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724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3310"/>
                </a:solidFill>
                <a:latin typeface="Tahoma"/>
                <a:ea typeface="MS Pゴシック"/>
              </a:rPr>
              <a:t>What constitutes PARTICIP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E Moodle &amp;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to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d down by university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dd guests 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86720" cy="6019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DE Moodle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llaborative Moodle &amp; wiki sit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University of Ic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oo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s &amp; students added ma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moodle.khi.is/course/category.php?id=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spaces sites for student-student, student-teacher &amp; teacher-teacher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//athabascakhi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wikispaces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Athab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791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xternal wiki sit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96280" cy="6019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ommunications Technologi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9436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uminate vRo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elluminate</a:t>
            </a:r>
            <a:r>
              <a:rPr b="0" lang="en-US" sz="2400" spc="-1" strike="noStrike" u="sng">
                <a:solidFill>
                  <a:srgbClr val="ff8900"/>
                </a:solidFill>
                <a:uFillTx/>
                <a:latin typeface="Arial"/>
              </a:rPr>
              <a:t>.com/v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skyp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Zi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wiziq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D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900"/>
                </a:solidFill>
                <a:uFillTx/>
                <a:latin typeface="Arial"/>
              </a:rPr>
              <a:t>http://www.dimdim.com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Previously …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unity form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ross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novice to 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receiver to ref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om learner to practitioner to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hanging rol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v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ling processes &amp;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assessment practic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ome advice from my student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1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 necessity for lifelong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green”-er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Accessibility &amp; openness (x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8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900"/>
                </a:solidFill>
                <a:latin typeface="Arial"/>
              </a:rPr>
              <a:t>centrality of CM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for lifestyle &amp; commi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dom to design your own program &amp; courses according to inte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ibility, breaking down barriers &amp; reaching remot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y in experience &amp; direction (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oth experience of learner &amp; direction of studies i.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designed courses &amp;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ing up with advancements in technology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ritical differences in DE 2 …/2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8900"/>
                </a:solidFill>
                <a:latin typeface="Arial"/>
              </a:rPr>
              <a:t>multi-modal techniques to cultivate engagement (x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from “compensation model” to “celebration model” (x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83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8343"/>
                </a:solidFill>
                <a:latin typeface="Arial"/>
              </a:rPr>
              <a:t>DRAG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Diverse (many and different; distinct and unal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Requisites (anything indispens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Accessing (obtain or retrieve from a storage device like information on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Global (not limited or provincial in 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Opportunities (a possibility due to a favourable combination of circumst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Non-traditionally (not conforming or in accord with the considered n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e834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8343"/>
                </a:solidFill>
                <a:latin typeface="Arial"/>
              </a:rPr>
              <a:t>Sustained (supply with necessities and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571500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Debra Hov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entre for Distance Educatio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Athabasca University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athabascauteslca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cde.athabascau.ca/faculty/debrah.ph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deincanada.blogspot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http://lifentheuniverse.blogspo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900"/>
                </a:solidFill>
                <a:uFillTx/>
                <a:latin typeface="Arial"/>
              </a:rPr>
              <a:t>debrah@athabascau.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Experiences of pedagog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eriential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k/project-bas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mutually-supportive reflective inqui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tended community of experts-no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unity of learner-practitioner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Social constructivism &amp; teacher chang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lf-reflection on beliefs &amp;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of afford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ciousness of conflict/dysjun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osure to modelling of effective uses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rience &amp; practice in a range of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81c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acilitating change in attitudes/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Richardson &amp; Placier, 2001; King, 2002; Bird &amp; Rosaen, 2005; Brook &amp; Oliver, 2005; Hughes, 2005)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Attitudes towards technology &amp; effective use of i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wined with teacher learning, compr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bject matt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knowledg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dagogical content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other words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achers will only embrace change and innovation when they can see positive benefi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rect relevance to their content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ness from a practical task perspective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effectiveness for their day to day classroom te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Hughes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57913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Tools use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ebquests using SDSU portal &lt;http://www.webquest.org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reamweaver + online media &amp;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t Potatoes + various other online templating tools +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cial communication/networ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ki – MediaWiki hosted on university serv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dividual blogs – Blogger (www-view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1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internal-remote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asily accessible from everywhere (where my students were loc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flectiv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exible (&amp; re-purpose-able)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tensible outside timelines of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0760" y="838080"/>
            <a:ext cx="48006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xperimenting with the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roup organization: sharing &amp; 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ints &amp; tips (Q &amp; A, quick fix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esting articles/s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ting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lf-refl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eer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utual support &amp;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mmunity formation &amp;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ong members of single coh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ontinents &amp; oce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seme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cross cultural &amp; social dysjunct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58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Futura"/>
              </a:rPr>
              <a:t>Expectations vs Use of SN Tools 2 .../2</a:t>
            </a:r>
            <a:r>
              <a:rPr b="0" lang="en-AU" sz="4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4038480" cy="5257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 quick changes of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heck if on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course-related theoretical Qs &amp;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ynchronous local &amp; internation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ormal annotated electronic record of program documents, artefacts, achie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67080" y="1066680"/>
            <a:ext cx="472464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otification of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t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 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w p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 F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urs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rmal comments on the course &amp; 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 response to instructor’s pos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ynchronous remote/ internal communication o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tch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ocializ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urse-related trans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-Portfol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reated but hardly (yet) u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81cb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ssibly because of formal nature cf digital sto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0:12:36Z</dcterms:created>
  <dc:creator>DebraH</dc:creator>
  <dc:description/>
  <dc:language>en-US</dc:language>
  <cp:lastModifiedBy>DebraH</cp:lastModifiedBy>
  <dcterms:modified xsi:type="dcterms:W3CDTF">2008-05-31T18:30:57Z</dcterms:modified>
  <cp:revision>7</cp:revision>
  <dc:subject/>
  <dc:title>PowerPoint Presentation</dc:title>
</cp:coreProperties>
</file>