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187-FBAA-43FD-ADB1-F8A900E3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17C-4C8E-4E7E-BDBC-F1333BF6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5CC-3A1F-40C3-B76A-C14071E2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2E6-D6DB-4970-AC5D-37F85987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231B-10C7-4F34-8204-7FC7BCB0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7CB-4F77-478F-B648-0D2F6112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7303-05C3-4062-897D-FA2FD3C7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E972-4A69-47BB-BA5A-5CF764FE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1FA4-F3DD-4732-9A8E-91430F3F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23F1-451B-4174-AD77-BE20A1A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F2F6-3E53-466B-9224-DE3AFDE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DF4-EA9C-4F45-B16E-8D6D920C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CF43-DD8E-4DDE-8B7C-892C3A91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8180-A3AA-4D3E-B1B9-25CB444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A541-DAD0-49EC-85FF-969998B2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B065-0246-40E4-93A8-E276528F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B101-1231-4346-B558-AABF87C8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B1C-1326-47EA-80DE-56A7261D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1AE-2C8B-45C3-97CB-3F1F363F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26D-104B-4B38-B703-73B3154B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6CB-FCBC-4CDE-9E05-7235556B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CBC-D76C-43A2-887B-9614EBDE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1EC-B849-46E7-B4C7-4E94333B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976-AC3E-46AB-94BC-66DB80E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5A84-8FBD-489D-8729-7B3F255E97B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4B70-25CF-4D23-BD14-333FB3CC77E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e.lms.athabascau.ca/course/view.php?id=94" TargetMode="External"/><Relationship Id="rId3" Type="http://schemas.openxmlformats.org/officeDocument/2006/relationships/hyperlink" Target="http://cde.lms.athabascau.ca/course/view.php?id=94" TargetMode="External"/><Relationship Id="rId4" Type="http://schemas.openxmlformats.org/officeDocument/2006/relationships/hyperlink" Target="http://cde.lms.athabascau.ca/course/view.php?id=94" TargetMode="External"/><Relationship Id="rId5" Type="http://schemas.openxmlformats.org/officeDocument/2006/relationships/hyperlink" Target="http://cde.lms.athabascau.ca/course/view.php?id=94" TargetMode="External"/><Relationship Id="rId6" Type="http://schemas.openxmlformats.org/officeDocument/2006/relationships/hyperlink" Target="http://cde.lms.athabascau.ca/course/view.php?id=94" TargetMode="External"/><Relationship Id="rId7" Type="http://schemas.openxmlformats.org/officeDocument/2006/relationships/hyperlink" Target="http://cde.lms.athabascau.ca/course/view.php?id=94" TargetMode="External"/><Relationship Id="rId8" Type="http://schemas.openxmlformats.org/officeDocument/2006/relationships/hyperlink" Target="http://cde.lms.athabascau.ca/course/view.php?id=94" TargetMode="External"/><Relationship Id="rId9" Type="http://schemas.openxmlformats.org/officeDocument/2006/relationships/hyperlink" Target="http://cde.lms.athabascau.ca/course/view.php?id=94" TargetMode="External"/><Relationship Id="rId10" Type="http://schemas.openxmlformats.org/officeDocument/2006/relationships/hyperlink" Target="http://cde.lms.athabascau.ca/course/view.php?id=94" TargetMode="External"/><Relationship Id="rId11" Type="http://schemas.openxmlformats.org/officeDocument/2006/relationships/hyperlink" Target="http://moodle.khi.is/mod/forum/view.php?id=1954" TargetMode="External"/><Relationship Id="rId12" Type="http://schemas.openxmlformats.org/officeDocument/2006/relationships/hyperlink" Target="http://moodle.khi.is/mod/forum/view.php?id=1954" TargetMode="External"/><Relationship Id="rId13" Type="http://schemas.openxmlformats.org/officeDocument/2006/relationships/hyperlink" Target="http://moodle.khi.is/mod/forum/view.php?id=1954" TargetMode="External"/><Relationship Id="rId14" Type="http://schemas.openxmlformats.org/officeDocument/2006/relationships/hyperlink" Target="http://moodle.khi.is/mod/forum/view.php?id=1954" TargetMode="External"/><Relationship Id="rId15" Type="http://schemas.openxmlformats.org/officeDocument/2006/relationships/hyperlink" Target="http://moodle.khi.is/mod/forum/view.php?id=1954" TargetMode="External"/><Relationship Id="rId16" Type="http://schemas.openxmlformats.org/officeDocument/2006/relationships/hyperlink" Target="http://moodle.khi.is/mod/forum/view.php?id=1954" TargetMode="External"/><Relationship Id="rId17" Type="http://schemas.openxmlformats.org/officeDocument/2006/relationships/hyperlink" Target="http://moodle.khi.is/mod/forum/view.php?id=1954" TargetMode="External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luminate.com/live/md.html?rk=9B1LRFXLWI3IT7MK" TargetMode="External"/><Relationship Id="rId3" Type="http://schemas.openxmlformats.org/officeDocument/2006/relationships/hyperlink" Target="http://elluminate.com/live/md.html?rk=9B1LRFXLWI3IT7MK" TargetMode="External"/><Relationship Id="rId4" Type="http://schemas.openxmlformats.org/officeDocument/2006/relationships/hyperlink" Target="http://elluminate.com/live/md.html?rk=9B1LRFXLWI3IT7MK" TargetMode="External"/><Relationship Id="rId5" Type="http://schemas.openxmlformats.org/officeDocument/2006/relationships/hyperlink" Target="http://elluminate.com/live/md.html?rk=9B1LRFXLWI3IT7MK" TargetMode="External"/><Relationship Id="rId6" Type="http://schemas.openxmlformats.org/officeDocument/2006/relationships/hyperlink" Target="http://elluminate.com/live/md.html?rk=9B1LRFXLWI3IT7MK" TargetMode="External"/><Relationship Id="rId7" Type="http://schemas.openxmlformats.org/officeDocument/2006/relationships/hyperlink" Target="http://www.skype.com/welcomeback/" TargetMode="External"/><Relationship Id="rId8" Type="http://schemas.openxmlformats.org/officeDocument/2006/relationships/hyperlink" Target="http://www.skype.com/welcomeback/" TargetMode="External"/><Relationship Id="rId9" Type="http://schemas.openxmlformats.org/officeDocument/2006/relationships/hyperlink" Target="http://www.skype.com/welcomeback/" TargetMode="External"/><Relationship Id="rId10" Type="http://schemas.openxmlformats.org/officeDocument/2006/relationships/hyperlink" Target="http://www.skype.com/welcomeback/" TargetMode="External"/><Relationship Id="rId11" Type="http://schemas.openxmlformats.org/officeDocument/2006/relationships/hyperlink" Target="http://www.wiziq.com/Sign_In.aspx?show=0" TargetMode="External"/><Relationship Id="rId12" Type="http://schemas.openxmlformats.org/officeDocument/2006/relationships/hyperlink" Target="http://www.wiziq.com/Sign_In.aspx?show=0" TargetMode="External"/><Relationship Id="rId13" Type="http://schemas.openxmlformats.org/officeDocument/2006/relationships/hyperlink" Target="http://www.wiziq.com/Sign_In.aspx?show=0" TargetMode="External"/><Relationship Id="rId14" Type="http://schemas.openxmlformats.org/officeDocument/2006/relationships/hyperlink" Target="http://www.wiziq.com/Sign_In.aspx?show=0" TargetMode="External"/><Relationship Id="rId15" Type="http://schemas.openxmlformats.org/officeDocument/2006/relationships/hyperlink" Target="http://www.wiziq.com/Sign_In.aspx?show=0" TargetMode="External"/><Relationship Id="rId16" Type="http://schemas.openxmlformats.org/officeDocument/2006/relationships/hyperlink" Target="http://www.wiziq.com/Sign_In.aspx?show=0" TargetMode="External"/><Relationship Id="rId17" Type="http://schemas.openxmlformats.org/officeDocument/2006/relationships/hyperlink" Target="http://www.wiziq.com/Sign_In.aspx?show=0" TargetMode="External"/><Relationship Id="rId18" Type="http://schemas.openxmlformats.org/officeDocument/2006/relationships/hyperlink" Target="http://webmeeting.dimdim.com/portal/login.html" TargetMode="External"/><Relationship Id="rId19" Type="http://schemas.openxmlformats.org/officeDocument/2006/relationships/hyperlink" Target="http://webmeeting.dimdim.com/portal/login.html" TargetMode="External"/><Relationship Id="rId20" Type="http://schemas.openxmlformats.org/officeDocument/2006/relationships/hyperlink" Target="http://webmeeting.dimdim.com/portal/login.html" TargetMode="External"/><Relationship Id="rId21" Type="http://schemas.openxmlformats.org/officeDocument/2006/relationships/hyperlink" Target="http://webmeeting.dimdim.com/portal/login.html" TargetMode="External"/><Relationship Id="rId22" Type="http://schemas.openxmlformats.org/officeDocument/2006/relationships/hyperlink" Target="http://webmeeting.dimdim.com/portal/login.html" TargetMode="External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incanada.blogspot.com/" TargetMode="External"/><Relationship Id="rId3" Type="http://schemas.openxmlformats.org/officeDocument/2006/relationships/hyperlink" Target="http://deincanada.blogspot.com/" TargetMode="External"/><Relationship Id="rId4" Type="http://schemas.openxmlformats.org/officeDocument/2006/relationships/hyperlink" Target="http://deincanada.blogspot.com/" TargetMode="External"/><Relationship Id="rId5" Type="http://schemas.openxmlformats.org/officeDocument/2006/relationships/hyperlink" Target="http://deincanada.blogspot.com/" TargetMode="External"/><Relationship Id="rId6" Type="http://schemas.openxmlformats.org/officeDocument/2006/relationships/hyperlink" Target="http://deincanada.blogspot.com/" TargetMode="External"/><Relationship Id="rId7" Type="http://schemas.openxmlformats.org/officeDocument/2006/relationships/hyperlink" Target="http://www.katsseriousblog.blogspot.com/" TargetMode="External"/><Relationship Id="rId8" Type="http://schemas.openxmlformats.org/officeDocument/2006/relationships/hyperlink" Target="http://www.katsseriousblog.blogspot.com/" TargetMode="External"/><Relationship Id="rId9" Type="http://schemas.openxmlformats.org/officeDocument/2006/relationships/hyperlink" Target="http://www.katsseriousblog.blogspot.com/" TargetMode="External"/><Relationship Id="rId10" Type="http://schemas.openxmlformats.org/officeDocument/2006/relationships/hyperlink" Target="http://www.katsseriousblog.blogspot.com/" TargetMode="External"/><Relationship Id="rId11" Type="http://schemas.openxmlformats.org/officeDocument/2006/relationships/hyperlink" Target="http://www.katsseriousblog.blogspot.com/" TargetMode="External"/><Relationship Id="rId12" Type="http://schemas.openxmlformats.org/officeDocument/2006/relationships/hyperlink" Target="http://robeebajar.blogspot.com/" TargetMode="External"/><Relationship Id="rId13" Type="http://schemas.openxmlformats.org/officeDocument/2006/relationships/hyperlink" Target="http://robeebajar.blogspot.com/" TargetMode="External"/><Relationship Id="rId14" Type="http://schemas.openxmlformats.org/officeDocument/2006/relationships/hyperlink" Target="http://robeebajar.blogspot.com/" TargetMode="External"/><Relationship Id="rId15" Type="http://schemas.openxmlformats.org/officeDocument/2006/relationships/hyperlink" Target="http://robeebajar.blogspot.com/" TargetMode="External"/><Relationship Id="rId16" Type="http://schemas.openxmlformats.org/officeDocument/2006/relationships/hyperlink" Target="http://robeebajar.blogspot.com/" TargetMode="External"/><Relationship Id="rId17" Type="http://schemas.openxmlformats.org/officeDocument/2006/relationships/hyperlink" Target="http://caiyuanliyu.blogspot.com/" TargetMode="External"/><Relationship Id="rId18" Type="http://schemas.openxmlformats.org/officeDocument/2006/relationships/hyperlink" Target="http://caiyuanliyu.blogspot.com/" TargetMode="External"/><Relationship Id="rId19" Type="http://schemas.openxmlformats.org/officeDocument/2006/relationships/hyperlink" Target="http://caiyuanliyu.blogspot.com/" TargetMode="External"/><Relationship Id="rId20" Type="http://schemas.openxmlformats.org/officeDocument/2006/relationships/hyperlink" Target="http://caiyuanliyu.blogspot.com/" TargetMode="External"/><Relationship Id="rId21" Type="http://schemas.openxmlformats.org/officeDocument/2006/relationships/hyperlink" Target="http://caiyuanliyu.blogspot.com/" TargetMode="External"/><Relationship Id="rId22" Type="http://schemas.openxmlformats.org/officeDocument/2006/relationships/hyperlink" Target="http://272869530.blogspot.com/" TargetMode="External"/><Relationship Id="rId23" Type="http://schemas.openxmlformats.org/officeDocument/2006/relationships/hyperlink" Target="http://272869530.blogspot.com/" TargetMode="External"/><Relationship Id="rId24" Type="http://schemas.openxmlformats.org/officeDocument/2006/relationships/hyperlink" Target="http://272869530.blogspot.com/" TargetMode="External"/><Relationship Id="rId25" Type="http://schemas.openxmlformats.org/officeDocument/2006/relationships/hyperlink" Target="http://karen-fruitbasket-karen.blogspot.com/" TargetMode="External"/><Relationship Id="rId26" Type="http://schemas.openxmlformats.org/officeDocument/2006/relationships/hyperlink" Target="http://karen-fruitbasket-karen.blogspot.com/" TargetMode="External"/><Relationship Id="rId27" Type="http://schemas.openxmlformats.org/officeDocument/2006/relationships/hyperlink" Target="http://karen-fruitbasket-karen.blogspot.com/" TargetMode="External"/><Relationship Id="rId28" Type="http://schemas.openxmlformats.org/officeDocument/2006/relationships/hyperlink" Target="http://karen-fruitbasket-karen.blogspot.com/" TargetMode="External"/><Relationship Id="rId29" Type="http://schemas.openxmlformats.org/officeDocument/2006/relationships/hyperlink" Target="http://karen-fruitbasket-karen.blogspot.com/" TargetMode="External"/><Relationship Id="rId3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ing.ed.qut.edu.au/cln618/wiki.1-07/index.php/Main_Page" TargetMode="External"/><Relationship Id="rId3" Type="http://schemas.openxmlformats.org/officeDocument/2006/relationships/hyperlink" Target="http://teaching.ed.qut.edu.au/cln618/wiki.1-07/index.php/Main_Page" TargetMode="External"/><Relationship Id="rId4" Type="http://schemas.openxmlformats.org/officeDocument/2006/relationships/hyperlink" Target="http://teaching.ed.qut.edu.au/cln618/wiki.1-07/index.php/Main_Page" TargetMode="External"/><Relationship Id="rId5" Type="http://schemas.openxmlformats.org/officeDocument/2006/relationships/hyperlink" Target="http://teaching.ed.qut.edu.au/cln618/wiki.1-07/index.php/Main_Page" TargetMode="External"/><Relationship Id="rId6" Type="http://schemas.openxmlformats.org/officeDocument/2006/relationships/hyperlink" Target="http://teaching.ed.qut.edu.au/cln618/wiki.1-07/index.php/Main_Page" TargetMode="External"/><Relationship Id="rId7" Type="http://schemas.openxmlformats.org/officeDocument/2006/relationships/hyperlink" Target="http://teaching.ed.qut.edu.au/cln618/wiki/index.php/Main_Page" TargetMode="External"/><Relationship Id="rId8" Type="http://schemas.openxmlformats.org/officeDocument/2006/relationships/hyperlink" Target="http://teaching.ed.qut.edu.au/cln618/wiki/index.php/Main_Page" TargetMode="External"/><Relationship Id="rId9" Type="http://schemas.openxmlformats.org/officeDocument/2006/relationships/hyperlink" Target="http://teaching.ed.qut.edu.au/cln618/wiki/index.php/Main_Page" TargetMode="External"/><Relationship Id="rId10" Type="http://schemas.openxmlformats.org/officeDocument/2006/relationships/hyperlink" Target="http://teaching.ed.qut.edu.au/cln618/wiki/index.php/Main_Page" TargetMode="External"/><Relationship Id="rId11" Type="http://schemas.openxmlformats.org/officeDocument/2006/relationships/hyperlink" Target="http://teaching.ed.qut.edu.au/cln618/wiki/index.php/Main_Page" TargetMode="External"/><Relationship Id="rId12" Type="http://schemas.openxmlformats.org/officeDocument/2006/relationships/hyperlink" Target="http://teaching.ed.qut.edu.au/cln618/wiki/index.php/Main_Page" TargetMode="External"/><Relationship Id="rId13" Type="http://schemas.openxmlformats.org/officeDocument/2006/relationships/hyperlink" Target="http://athabascakhi.wikispaces.com/KHI" TargetMode="External"/><Relationship Id="rId14" Type="http://schemas.openxmlformats.org/officeDocument/2006/relationships/hyperlink" Target="http://athabascakhi.wikispaces.com/KHI" TargetMode="External"/><Relationship Id="rId15" Type="http://schemas.openxmlformats.org/officeDocument/2006/relationships/hyperlink" Target="http://athabascakhi.wikispaces.com/KHI" TargetMode="External"/><Relationship Id="rId16" Type="http://schemas.openxmlformats.org/officeDocument/2006/relationships/hyperlink" Target="http://athabascakhi.wikispaces.com/KHI" TargetMode="External"/><Relationship Id="rId17" Type="http://schemas.openxmlformats.org/officeDocument/2006/relationships/hyperlink" Target="http://athabascakhi.wikispaces.com/KHI" TargetMode="External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e.athabascau.ca/umlaut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3880"/>
            <a:ext cx="73911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imes New Roman"/>
              </a:rPr>
              <a:t>E-Tools and Teaching ESL through Distance Education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3429000"/>
            <a:ext cx="5715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r Debra Hove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Centre for Distance Educatio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thabasca University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ESL Ca Symposium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Moncton, 29 May 2008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oodl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Athabasca U course Moodl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cde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lms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athabascau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.ca/course/view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php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?id=94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celand University of Education Moodl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http: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//moodle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khi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is/mod/forum/view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php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?id=1954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ome student-created Moodle sites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Voic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lluminate vRoom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elluminate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com/live/md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html?rk=9B1LRFXLWI3IT7MK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kyp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skype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com/welcomeback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WiZiQ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wiziq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com/Sign_In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aspx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?show=0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imDi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8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9"/>
              </a:rPr>
              <a:t>//webmeeting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0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1"/>
              </a:rPr>
              <a:t>dimdim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2"/>
              </a:rPr>
              <a:t>.com/portal/login.htm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Blogging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bra’s 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lifentheuniverse.blogspot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 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deincanada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Kat’s blog &amp; classe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katsseriousblog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Robee’s corn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//robeebajar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Lila’s blog &amp; student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8"/>
              </a:rPr>
              <a:t>//caiyuanliy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0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1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2"/>
              </a:rPr>
              <a:t>http://272869530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3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4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5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6"/>
              </a:rPr>
              <a:t>//karen-fruitbasket-karen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7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8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9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Wiki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U wiki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QUT wiki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//teaching.ed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qu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ed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au/cln618/wiki.1-07/index.php/Main_Pag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teaching.ed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qu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ed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.au/cln618/wiki/index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php/Main_Pag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KHI wiki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//athabascakhi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wikispaces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.com/KHI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obile learning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acebook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www.facebook.com/group.php?gid=2389494301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MobiGla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//cde.athabascau.ca/umlaut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igital storytelling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electronicportfolios.org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-Portfolio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me2u.athabascau.ca/elgg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and beyond …?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thought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comment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idea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:-)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ontac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mai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brah@athabascau.ca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deincanada.blogspot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U websit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cde.athabascau.ca/faculty/debrah.php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1:12:57Z</dcterms:created>
  <dc:creator>DebraH</dc:creator>
  <dc:description/>
  <dc:language>en-US</dc:language>
  <cp:lastModifiedBy>DebraH</cp:lastModifiedBy>
  <dcterms:modified xsi:type="dcterms:W3CDTF">2008-05-29T11:15:23Z</dcterms:modified>
  <cp:revision>4</cp:revision>
  <dc:subject/>
  <dc:title>E-Tools and Teaching ESL through Distance Education</dc:title>
</cp:coreProperties>
</file>