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A720-41B8-4EA6-8D2F-9F716CD7D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DAA9-2E0A-480D-84C0-6309C5F9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C265-B232-453F-BD35-D9109E89B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CED3-7EEC-44C4-B382-C22844CA7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D008-0E31-4011-B95F-098902F43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6B700-CF6D-4544-98AB-53468A16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5ADF4-1B9E-4548-B030-0BEDC196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1CCB-190D-49DA-BBA3-920991E8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2C2C-4688-458E-87FB-FC0FEAA9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E5F6-C7B1-449A-8E66-142D48F8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6201-FC91-4636-B450-4A90D32D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FD01-799F-4947-AB5E-A5DCDF1E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0935-7137-44A5-B29C-C3DCFAD0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9CA9-21E7-4A87-8E65-AB9F62F9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05367-F379-4CE3-B572-65401AB8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E8A3B-8F21-46F3-A7D8-9DC9DCF0D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79801-6D30-4173-90DD-BD859BE9F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C6BE-0E29-4BEA-B21C-27E0046B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2F4A-29F7-4B66-AD15-9FB1FFDE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A113-08D7-4BFA-AB3D-A182BB7F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7541-D233-40D8-A83A-B7A84448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4FBA-2386-4891-8B17-F8B2238D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A3EC-734B-41B4-9942-25681FB5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5471-B731-4027-807A-2808961E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0958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DEE9-A6FB-417F-807B-0B5FC53AE5E7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77680" y="1981080"/>
            <a:ext cx="7391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240" y="60958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057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9B69-7AA3-4E36-A60D-409D06DB6B24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8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8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8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8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8000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8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8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de.lms.athabascau.ca/course/view.php?id=94" TargetMode="External"/><Relationship Id="rId3" Type="http://schemas.openxmlformats.org/officeDocument/2006/relationships/hyperlink" Target="http://cde.lms.athabascau.ca/course/view.php?id=94" TargetMode="External"/><Relationship Id="rId4" Type="http://schemas.openxmlformats.org/officeDocument/2006/relationships/hyperlink" Target="http://cde.lms.athabascau.ca/course/view.php?id=94" TargetMode="External"/><Relationship Id="rId5" Type="http://schemas.openxmlformats.org/officeDocument/2006/relationships/hyperlink" Target="http://cde.lms.athabascau.ca/course/view.php?id=94" TargetMode="External"/><Relationship Id="rId6" Type="http://schemas.openxmlformats.org/officeDocument/2006/relationships/hyperlink" Target="http://cde.lms.athabascau.ca/course/view.php?id=94" TargetMode="External"/><Relationship Id="rId7" Type="http://schemas.openxmlformats.org/officeDocument/2006/relationships/hyperlink" Target="http://cde.lms.athabascau.ca/course/view.php?id=94" TargetMode="External"/><Relationship Id="rId8" Type="http://schemas.openxmlformats.org/officeDocument/2006/relationships/hyperlink" Target="http://cde.lms.athabascau.ca/course/view.php?id=94" TargetMode="External"/><Relationship Id="rId9" Type="http://schemas.openxmlformats.org/officeDocument/2006/relationships/hyperlink" Target="http://cde.lms.athabascau.ca/course/view.php?id=94" TargetMode="External"/><Relationship Id="rId10" Type="http://schemas.openxmlformats.org/officeDocument/2006/relationships/hyperlink" Target="http://cde.lms.athabascau.ca/course/view.php?id=94" TargetMode="External"/><Relationship Id="rId11" Type="http://schemas.openxmlformats.org/officeDocument/2006/relationships/hyperlink" Target="http://moodle.khi.is/mod/forum/view.php?id=1954" TargetMode="External"/><Relationship Id="rId12" Type="http://schemas.openxmlformats.org/officeDocument/2006/relationships/hyperlink" Target="http://moodle.khi.is/mod/forum/view.php?id=1954" TargetMode="External"/><Relationship Id="rId13" Type="http://schemas.openxmlformats.org/officeDocument/2006/relationships/hyperlink" Target="http://moodle.khi.is/mod/forum/view.php?id=1954" TargetMode="External"/><Relationship Id="rId14" Type="http://schemas.openxmlformats.org/officeDocument/2006/relationships/hyperlink" Target="http://moodle.khi.is/mod/forum/view.php?id=1954" TargetMode="External"/><Relationship Id="rId15" Type="http://schemas.openxmlformats.org/officeDocument/2006/relationships/hyperlink" Target="http://moodle.khi.is/mod/forum/view.php?id=1954" TargetMode="External"/><Relationship Id="rId16" Type="http://schemas.openxmlformats.org/officeDocument/2006/relationships/hyperlink" Target="http://moodle.khi.is/mod/forum/view.php?id=1954" TargetMode="External"/><Relationship Id="rId17" Type="http://schemas.openxmlformats.org/officeDocument/2006/relationships/hyperlink" Target="http://moodle.khi.is/mod/forum/view.php?id=1954" TargetMode="External"/><Relationship Id="rId1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lluminate.com/live/md.html?rk=9B1LRFXLWI3IT7MK" TargetMode="External"/><Relationship Id="rId3" Type="http://schemas.openxmlformats.org/officeDocument/2006/relationships/hyperlink" Target="http://elluminate.com/live/md.html?rk=9B1LRFXLWI3IT7MK" TargetMode="External"/><Relationship Id="rId4" Type="http://schemas.openxmlformats.org/officeDocument/2006/relationships/hyperlink" Target="http://elluminate.com/live/md.html?rk=9B1LRFXLWI3IT7MK" TargetMode="External"/><Relationship Id="rId5" Type="http://schemas.openxmlformats.org/officeDocument/2006/relationships/hyperlink" Target="http://elluminate.com/live/md.html?rk=9B1LRFXLWI3IT7MK" TargetMode="External"/><Relationship Id="rId6" Type="http://schemas.openxmlformats.org/officeDocument/2006/relationships/hyperlink" Target="http://elluminate.com/live/md.html?rk=9B1LRFXLWI3IT7MK" TargetMode="External"/><Relationship Id="rId7" Type="http://schemas.openxmlformats.org/officeDocument/2006/relationships/hyperlink" Target="http://www.skype.com/welcomeback/" TargetMode="External"/><Relationship Id="rId8" Type="http://schemas.openxmlformats.org/officeDocument/2006/relationships/hyperlink" Target="http://www.skype.com/welcomeback/" TargetMode="External"/><Relationship Id="rId9" Type="http://schemas.openxmlformats.org/officeDocument/2006/relationships/hyperlink" Target="http://www.skype.com/welcomeback/" TargetMode="External"/><Relationship Id="rId10" Type="http://schemas.openxmlformats.org/officeDocument/2006/relationships/hyperlink" Target="http://www.skype.com/welcomeback/" TargetMode="External"/><Relationship Id="rId11" Type="http://schemas.openxmlformats.org/officeDocument/2006/relationships/hyperlink" Target="http://www.wiziq.com/Sign_In.aspx?show=0" TargetMode="External"/><Relationship Id="rId12" Type="http://schemas.openxmlformats.org/officeDocument/2006/relationships/hyperlink" Target="http://www.wiziq.com/Sign_In.aspx?show=0" TargetMode="External"/><Relationship Id="rId13" Type="http://schemas.openxmlformats.org/officeDocument/2006/relationships/hyperlink" Target="http://www.wiziq.com/Sign_In.aspx?show=0" TargetMode="External"/><Relationship Id="rId14" Type="http://schemas.openxmlformats.org/officeDocument/2006/relationships/hyperlink" Target="http://www.wiziq.com/Sign_In.aspx?show=0" TargetMode="External"/><Relationship Id="rId15" Type="http://schemas.openxmlformats.org/officeDocument/2006/relationships/hyperlink" Target="http://www.wiziq.com/Sign_In.aspx?show=0" TargetMode="External"/><Relationship Id="rId16" Type="http://schemas.openxmlformats.org/officeDocument/2006/relationships/hyperlink" Target="http://www.wiziq.com/Sign_In.aspx?show=0" TargetMode="External"/><Relationship Id="rId17" Type="http://schemas.openxmlformats.org/officeDocument/2006/relationships/hyperlink" Target="http://www.wiziq.com/Sign_In.aspx?show=0" TargetMode="External"/><Relationship Id="rId18" Type="http://schemas.openxmlformats.org/officeDocument/2006/relationships/hyperlink" Target="http://webmeeting.dimdim.com/portal/login.html" TargetMode="External"/><Relationship Id="rId19" Type="http://schemas.openxmlformats.org/officeDocument/2006/relationships/hyperlink" Target="http://webmeeting.dimdim.com/portal/login.html" TargetMode="External"/><Relationship Id="rId20" Type="http://schemas.openxmlformats.org/officeDocument/2006/relationships/hyperlink" Target="http://webmeeting.dimdim.com/portal/login.html" TargetMode="External"/><Relationship Id="rId21" Type="http://schemas.openxmlformats.org/officeDocument/2006/relationships/hyperlink" Target="http://webmeeting.dimdim.com/portal/login.html" TargetMode="External"/><Relationship Id="rId22" Type="http://schemas.openxmlformats.org/officeDocument/2006/relationships/hyperlink" Target="http://webmeeting.dimdim.com/portal/login.html" TargetMode="External"/><Relationship Id="rId2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eincanada.blogspot.com/" TargetMode="External"/><Relationship Id="rId3" Type="http://schemas.openxmlformats.org/officeDocument/2006/relationships/hyperlink" Target="http://deincanada.blogspot.com/" TargetMode="External"/><Relationship Id="rId4" Type="http://schemas.openxmlformats.org/officeDocument/2006/relationships/hyperlink" Target="http://deincanada.blogspot.com/" TargetMode="External"/><Relationship Id="rId5" Type="http://schemas.openxmlformats.org/officeDocument/2006/relationships/hyperlink" Target="http://deincanada.blogspot.com/" TargetMode="External"/><Relationship Id="rId6" Type="http://schemas.openxmlformats.org/officeDocument/2006/relationships/hyperlink" Target="http://deincanada.blogspot.com/" TargetMode="External"/><Relationship Id="rId7" Type="http://schemas.openxmlformats.org/officeDocument/2006/relationships/hyperlink" Target="http://www.katsseriousblog.blogspot.com/" TargetMode="External"/><Relationship Id="rId8" Type="http://schemas.openxmlformats.org/officeDocument/2006/relationships/hyperlink" Target="http://www.katsseriousblog.blogspot.com/" TargetMode="External"/><Relationship Id="rId9" Type="http://schemas.openxmlformats.org/officeDocument/2006/relationships/hyperlink" Target="http://www.katsseriousblog.blogspot.com/" TargetMode="External"/><Relationship Id="rId10" Type="http://schemas.openxmlformats.org/officeDocument/2006/relationships/hyperlink" Target="http://www.katsseriousblog.blogspot.com/" TargetMode="External"/><Relationship Id="rId11" Type="http://schemas.openxmlformats.org/officeDocument/2006/relationships/hyperlink" Target="http://www.katsseriousblog.blogspot.com/" TargetMode="External"/><Relationship Id="rId12" Type="http://schemas.openxmlformats.org/officeDocument/2006/relationships/hyperlink" Target="http://robeebajar.blogspot.com/" TargetMode="External"/><Relationship Id="rId13" Type="http://schemas.openxmlformats.org/officeDocument/2006/relationships/hyperlink" Target="http://robeebajar.blogspot.com/" TargetMode="External"/><Relationship Id="rId14" Type="http://schemas.openxmlformats.org/officeDocument/2006/relationships/hyperlink" Target="http://robeebajar.blogspot.com/" TargetMode="External"/><Relationship Id="rId15" Type="http://schemas.openxmlformats.org/officeDocument/2006/relationships/hyperlink" Target="http://robeebajar.blogspot.com/" TargetMode="External"/><Relationship Id="rId16" Type="http://schemas.openxmlformats.org/officeDocument/2006/relationships/hyperlink" Target="http://robeebajar.blogspot.com/" TargetMode="External"/><Relationship Id="rId17" Type="http://schemas.openxmlformats.org/officeDocument/2006/relationships/hyperlink" Target="http://caiyuanliyu.blogspot.com/" TargetMode="External"/><Relationship Id="rId18" Type="http://schemas.openxmlformats.org/officeDocument/2006/relationships/hyperlink" Target="http://caiyuanliyu.blogspot.com/" TargetMode="External"/><Relationship Id="rId19" Type="http://schemas.openxmlformats.org/officeDocument/2006/relationships/hyperlink" Target="http://caiyuanliyu.blogspot.com/" TargetMode="External"/><Relationship Id="rId20" Type="http://schemas.openxmlformats.org/officeDocument/2006/relationships/hyperlink" Target="http://caiyuanliyu.blogspot.com/" TargetMode="External"/><Relationship Id="rId21" Type="http://schemas.openxmlformats.org/officeDocument/2006/relationships/hyperlink" Target="http://caiyuanliyu.blogspot.com/" TargetMode="External"/><Relationship Id="rId22" Type="http://schemas.openxmlformats.org/officeDocument/2006/relationships/hyperlink" Target="http://272869530.blogspot.com/" TargetMode="External"/><Relationship Id="rId23" Type="http://schemas.openxmlformats.org/officeDocument/2006/relationships/hyperlink" Target="http://272869530.blogspot.com/" TargetMode="External"/><Relationship Id="rId24" Type="http://schemas.openxmlformats.org/officeDocument/2006/relationships/hyperlink" Target="http://272869530.blogspot.com/" TargetMode="External"/><Relationship Id="rId25" Type="http://schemas.openxmlformats.org/officeDocument/2006/relationships/hyperlink" Target="http://karen-fruitbasket-karen.blogspot.com/" TargetMode="External"/><Relationship Id="rId26" Type="http://schemas.openxmlformats.org/officeDocument/2006/relationships/hyperlink" Target="http://karen-fruitbasket-karen.blogspot.com/" TargetMode="External"/><Relationship Id="rId27" Type="http://schemas.openxmlformats.org/officeDocument/2006/relationships/hyperlink" Target="http://karen-fruitbasket-karen.blogspot.com/" TargetMode="External"/><Relationship Id="rId28" Type="http://schemas.openxmlformats.org/officeDocument/2006/relationships/hyperlink" Target="http://karen-fruitbasket-karen.blogspot.com/" TargetMode="External"/><Relationship Id="rId29" Type="http://schemas.openxmlformats.org/officeDocument/2006/relationships/hyperlink" Target="http://karen-fruitbasket-karen.blogspot.com/" TargetMode="External"/><Relationship Id="rId3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eaching.ed.qut.edu.au/cln618/wiki.1-07/index.php/Main_Page" TargetMode="External"/><Relationship Id="rId3" Type="http://schemas.openxmlformats.org/officeDocument/2006/relationships/hyperlink" Target="http://teaching.ed.qut.edu.au/cln618/wiki.1-07/index.php/Main_Page" TargetMode="External"/><Relationship Id="rId4" Type="http://schemas.openxmlformats.org/officeDocument/2006/relationships/hyperlink" Target="http://teaching.ed.qut.edu.au/cln618/wiki.1-07/index.php/Main_Page" TargetMode="External"/><Relationship Id="rId5" Type="http://schemas.openxmlformats.org/officeDocument/2006/relationships/hyperlink" Target="http://teaching.ed.qut.edu.au/cln618/wiki.1-07/index.php/Main_Page" TargetMode="External"/><Relationship Id="rId6" Type="http://schemas.openxmlformats.org/officeDocument/2006/relationships/hyperlink" Target="http://teaching.ed.qut.edu.au/cln618/wiki.1-07/index.php/Main_Page" TargetMode="External"/><Relationship Id="rId7" Type="http://schemas.openxmlformats.org/officeDocument/2006/relationships/hyperlink" Target="http://teaching.ed.qut.edu.au/cln618/wiki/index.php/Main_Page" TargetMode="External"/><Relationship Id="rId8" Type="http://schemas.openxmlformats.org/officeDocument/2006/relationships/hyperlink" Target="http://teaching.ed.qut.edu.au/cln618/wiki/index.php/Main_Page" TargetMode="External"/><Relationship Id="rId9" Type="http://schemas.openxmlformats.org/officeDocument/2006/relationships/hyperlink" Target="http://teaching.ed.qut.edu.au/cln618/wiki/index.php/Main_Page" TargetMode="External"/><Relationship Id="rId10" Type="http://schemas.openxmlformats.org/officeDocument/2006/relationships/hyperlink" Target="http://teaching.ed.qut.edu.au/cln618/wiki/index.php/Main_Page" TargetMode="External"/><Relationship Id="rId11" Type="http://schemas.openxmlformats.org/officeDocument/2006/relationships/hyperlink" Target="http://teaching.ed.qut.edu.au/cln618/wiki/index.php/Main_Page" TargetMode="External"/><Relationship Id="rId12" Type="http://schemas.openxmlformats.org/officeDocument/2006/relationships/hyperlink" Target="http://teaching.ed.qut.edu.au/cln618/wiki/index.php/Main_Page" TargetMode="External"/><Relationship Id="rId13" Type="http://schemas.openxmlformats.org/officeDocument/2006/relationships/hyperlink" Target="http://athabascakhi.wikispaces.com/KHI" TargetMode="External"/><Relationship Id="rId14" Type="http://schemas.openxmlformats.org/officeDocument/2006/relationships/hyperlink" Target="http://athabascakhi.wikispaces.com/KHI" TargetMode="External"/><Relationship Id="rId15" Type="http://schemas.openxmlformats.org/officeDocument/2006/relationships/hyperlink" Target="http://athabascakhi.wikispaces.com/KHI" TargetMode="External"/><Relationship Id="rId16" Type="http://schemas.openxmlformats.org/officeDocument/2006/relationships/hyperlink" Target="http://athabascakhi.wikispaces.com/KHI" TargetMode="External"/><Relationship Id="rId17" Type="http://schemas.openxmlformats.org/officeDocument/2006/relationships/hyperlink" Target="http://athabascakhi.wikispaces.com/KHI" TargetMode="External"/><Relationship Id="rId1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de.athabascau.ca/umlautm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1523880"/>
            <a:ext cx="739116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8000"/>
                </a:solidFill>
                <a:latin typeface="Times New Roman"/>
              </a:rPr>
              <a:t>E-Tools and Teaching ESL through Distance Education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76160" y="3429000"/>
            <a:ext cx="57150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Dr Debra Hoven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Centre for Distance Education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Athabasca University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Tahoma"/>
              </a:rPr>
              <a:t>TESL Ca Symposium</a:t>
            </a:r>
            <a:endParaRPr b="0" lang="en-US" sz="2400" spc="-1" strike="noStrike">
              <a:solidFill>
                <a:srgbClr val="ff8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Tahoma"/>
              </a:rPr>
              <a:t>Moncton, 29 May 2008</a:t>
            </a:r>
            <a:endParaRPr b="0" lang="en-US" sz="24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Moodle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Athabasca U course Moodle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c9fff"/>
                </a:solidFill>
                <a:uFillTx/>
                <a:latin typeface="Tahoma"/>
                <a:hlinkClick r:id="rId2"/>
              </a:rPr>
              <a:t>http:</a:t>
            </a:r>
            <a:r>
              <a:rPr b="0" lang="en-US" sz="3200" spc="-1" strike="noStrike" u="sng">
                <a:solidFill>
                  <a:srgbClr val="9c9fff"/>
                </a:solidFill>
                <a:uFillTx/>
                <a:latin typeface="Tahoma"/>
                <a:hlinkClick r:id="rId3"/>
              </a:rPr>
              <a:t>//cde</a:t>
            </a:r>
            <a:r>
              <a:rPr b="0" lang="en-US" sz="3200" spc="-1" strike="noStrike" u="sng">
                <a:solidFill>
                  <a:srgbClr val="9c9fff"/>
                </a:solidFill>
                <a:uFillTx/>
                <a:latin typeface="Tahoma"/>
                <a:hlinkClick r:id="rId4"/>
              </a:rPr>
              <a:t>.</a:t>
            </a:r>
            <a:r>
              <a:rPr b="0" lang="en-US" sz="3200" spc="-1" strike="noStrike" u="sng">
                <a:solidFill>
                  <a:srgbClr val="9c9fff"/>
                </a:solidFill>
                <a:uFillTx/>
                <a:latin typeface="Tahoma"/>
                <a:hlinkClick r:id="rId5"/>
              </a:rPr>
              <a:t>lms</a:t>
            </a:r>
            <a:r>
              <a:rPr b="0" lang="en-US" sz="3200" spc="-1" strike="noStrike" u="sng">
                <a:solidFill>
                  <a:srgbClr val="9c9fff"/>
                </a:solidFill>
                <a:uFillTx/>
                <a:latin typeface="Tahoma"/>
                <a:hlinkClick r:id="rId6"/>
              </a:rPr>
              <a:t>.</a:t>
            </a:r>
            <a:r>
              <a:rPr b="0" lang="en-US" sz="3200" spc="-1" strike="noStrike" u="sng">
                <a:solidFill>
                  <a:srgbClr val="9c9fff"/>
                </a:solidFill>
                <a:uFillTx/>
                <a:latin typeface="Tahoma"/>
                <a:hlinkClick r:id="rId7"/>
              </a:rPr>
              <a:t>athabascau</a:t>
            </a:r>
            <a:r>
              <a:rPr b="0" lang="en-US" sz="3200" spc="-1" strike="noStrike" u="sng">
                <a:solidFill>
                  <a:srgbClr val="9c9fff"/>
                </a:solidFill>
                <a:uFillTx/>
                <a:latin typeface="Tahoma"/>
                <a:hlinkClick r:id="rId8"/>
              </a:rPr>
              <a:t>.ca/course/view.</a:t>
            </a:r>
            <a:r>
              <a:rPr b="0" lang="en-US" sz="3200" spc="-1" strike="noStrike" u="sng">
                <a:solidFill>
                  <a:srgbClr val="9c9fff"/>
                </a:solidFill>
                <a:uFillTx/>
                <a:latin typeface="Tahoma"/>
                <a:hlinkClick r:id="rId9"/>
              </a:rPr>
              <a:t>php</a:t>
            </a:r>
            <a:r>
              <a:rPr b="0" lang="en-US" sz="3200" spc="-1" strike="noStrike" u="sng">
                <a:solidFill>
                  <a:srgbClr val="9c9fff"/>
                </a:solidFill>
                <a:uFillTx/>
                <a:latin typeface="Tahoma"/>
                <a:hlinkClick r:id="rId10"/>
              </a:rPr>
              <a:t>?id=94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Iceland University of Education Moodle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c9fff"/>
                </a:solidFill>
                <a:uFillTx/>
                <a:latin typeface="Tahoma"/>
                <a:hlinkClick r:id="rId11"/>
              </a:rPr>
              <a:t>http:</a:t>
            </a:r>
            <a:r>
              <a:rPr b="0" lang="en-US" sz="3200" spc="-1" strike="noStrike" u="sng">
                <a:solidFill>
                  <a:srgbClr val="9c9fff"/>
                </a:solidFill>
                <a:uFillTx/>
                <a:latin typeface="Tahoma"/>
                <a:hlinkClick r:id="rId12"/>
              </a:rPr>
              <a:t>//moodle</a:t>
            </a:r>
            <a:r>
              <a:rPr b="0" lang="en-US" sz="3200" spc="-1" strike="noStrike" u="sng">
                <a:solidFill>
                  <a:srgbClr val="9c9fff"/>
                </a:solidFill>
                <a:uFillTx/>
                <a:latin typeface="Tahoma"/>
                <a:hlinkClick r:id="rId13"/>
              </a:rPr>
              <a:t>.</a:t>
            </a:r>
            <a:r>
              <a:rPr b="0" lang="en-US" sz="3200" spc="-1" strike="noStrike" u="sng">
                <a:solidFill>
                  <a:srgbClr val="9c9fff"/>
                </a:solidFill>
                <a:uFillTx/>
                <a:latin typeface="Tahoma"/>
                <a:hlinkClick r:id="rId14"/>
              </a:rPr>
              <a:t>khi</a:t>
            </a:r>
            <a:r>
              <a:rPr b="0" lang="en-US" sz="3200" spc="-1" strike="noStrike" u="sng">
                <a:solidFill>
                  <a:srgbClr val="9c9fff"/>
                </a:solidFill>
                <a:uFillTx/>
                <a:latin typeface="Tahoma"/>
                <a:hlinkClick r:id="rId15"/>
              </a:rPr>
              <a:t>.is/mod/forum/view.</a:t>
            </a:r>
            <a:r>
              <a:rPr b="0" lang="en-US" sz="3200" spc="-1" strike="noStrike" u="sng">
                <a:solidFill>
                  <a:srgbClr val="9c9fff"/>
                </a:solidFill>
                <a:uFillTx/>
                <a:latin typeface="Tahoma"/>
                <a:hlinkClick r:id="rId16"/>
              </a:rPr>
              <a:t>php</a:t>
            </a:r>
            <a:r>
              <a:rPr b="0" lang="en-US" sz="3200" spc="-1" strike="noStrike" u="sng">
                <a:solidFill>
                  <a:srgbClr val="9c9fff"/>
                </a:solidFill>
                <a:uFillTx/>
                <a:latin typeface="Tahoma"/>
                <a:hlinkClick r:id="rId17"/>
              </a:rPr>
              <a:t>?id=1954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ome student-created Moodle sites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Voice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Elluminate vRooms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"/>
              </a:rPr>
              <a:t>http: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3"/>
              </a:rPr>
              <a:t>//elluminate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4"/>
              </a:rPr>
              <a:t>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5"/>
              </a:rPr>
              <a:t>com/live/md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6"/>
              </a:rPr>
              <a:t>.html?rk=9B1LRFXLWI3IT7MK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Skype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7"/>
              </a:rPr>
              <a:t>http://www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8"/>
              </a:rPr>
              <a:t>skype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9"/>
              </a:rPr>
              <a:t>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0"/>
              </a:rPr>
              <a:t>com/welcomeback/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WiZiQ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1"/>
              </a:rPr>
              <a:t>http://www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2"/>
              </a:rPr>
              <a:t>wiziq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3"/>
              </a:rPr>
              <a:t>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4"/>
              </a:rPr>
              <a:t>com/Sign_In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5"/>
              </a:rPr>
              <a:t>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6"/>
              </a:rPr>
              <a:t>aspx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7"/>
              </a:rPr>
              <a:t>?show=0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DimDim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8"/>
              </a:rPr>
              <a:t>http: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9"/>
              </a:rPr>
              <a:t>//webmeeting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0"/>
              </a:rPr>
              <a:t>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1"/>
              </a:rPr>
              <a:t>dimdim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2"/>
              </a:rPr>
              <a:t>.com/portal/login.html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Blogging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715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Debra’s blog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http://lifentheuniverse.blogspot.com/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DE blog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"/>
              </a:rPr>
              <a:t>http: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3"/>
              </a:rPr>
              <a:t>//deincanada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4"/>
              </a:rPr>
              <a:t>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5"/>
              </a:rPr>
              <a:t>blogspot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6"/>
              </a:rPr>
              <a:t>.com/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Kat’s blog &amp; classes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7"/>
              </a:rPr>
              <a:t>http://www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8"/>
              </a:rPr>
              <a:t>katsseriousblog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9"/>
              </a:rPr>
              <a:t>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0"/>
              </a:rPr>
              <a:t>blogspot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1"/>
              </a:rPr>
              <a:t>.com/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Robee’s corner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2"/>
              </a:rPr>
              <a:t>http: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3"/>
              </a:rPr>
              <a:t>//robeebajar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4"/>
              </a:rPr>
              <a:t>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5"/>
              </a:rPr>
              <a:t>blogspot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6"/>
              </a:rPr>
              <a:t>.com/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Lila’s blog &amp; students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7"/>
              </a:rPr>
              <a:t>http: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8"/>
              </a:rPr>
              <a:t>//caiyuanliyu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9"/>
              </a:rPr>
              <a:t>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0"/>
              </a:rPr>
              <a:t>blogspot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1"/>
              </a:rPr>
              <a:t>.com/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2"/>
              </a:rPr>
              <a:t>http://272869530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3"/>
              </a:rPr>
              <a:t>blogspot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4"/>
              </a:rPr>
              <a:t>.com/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5"/>
              </a:rPr>
              <a:t>http: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6"/>
              </a:rPr>
              <a:t>//karen-fruitbasket-karen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7"/>
              </a:rPr>
              <a:t>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8"/>
              </a:rPr>
              <a:t>blogspot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9"/>
              </a:rPr>
              <a:t>.com/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Wikis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AU wiki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QUT wikis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"/>
              </a:rPr>
              <a:t>http://teaching.ed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3"/>
              </a:rPr>
              <a:t>qut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4"/>
              </a:rPr>
              <a:t>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5"/>
              </a:rPr>
              <a:t>edu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6"/>
              </a:rPr>
              <a:t>.au/cln618/wiki.1-07/index.php/Main_Page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7"/>
              </a:rPr>
              <a:t>http://teaching.ed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8"/>
              </a:rPr>
              <a:t>qut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9"/>
              </a:rPr>
              <a:t>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0"/>
              </a:rPr>
              <a:t>edu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1"/>
              </a:rPr>
              <a:t>.au/cln618/wiki/index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2"/>
              </a:rPr>
              <a:t>php/Main_Page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KHI wikis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3"/>
              </a:rPr>
              <a:t>http: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4"/>
              </a:rPr>
              <a:t>//athabascakhi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5"/>
              </a:rPr>
              <a:t>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6"/>
              </a:rPr>
              <a:t>wikispaces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7"/>
              </a:rPr>
              <a:t>.com/KHI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Mobile learning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Facebook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http://www.facebook.com/group.php?gid=2389494301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MobiGlam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"/>
              </a:rPr>
              <a:t>http://cde.athabascau.ca/umlautm/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Digital storytelling 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http://electronicportfolios.org/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E-Portfolios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http://me2u.athabascau.ca/elgg/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… </a:t>
            </a: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and beyond …?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Your thoughts?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Your comments?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Your ideas?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:-)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Contact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3452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email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debrah@athabascau.ca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blog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http://deincanada.blogspot.com/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AU website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http://cde.athabascau.ca/faculty/debrah.php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21:12:57Z</dcterms:created>
  <dc:creator>DebraH</dc:creator>
  <dc:description/>
  <dc:language>en-US</dc:language>
  <cp:lastModifiedBy>DebraH</cp:lastModifiedBy>
  <dcterms:modified xsi:type="dcterms:W3CDTF">2008-05-29T11:15:23Z</dcterms:modified>
  <cp:revision>4</cp:revision>
  <dc:subject/>
  <dc:title>E-Tools and Teaching ESL through Distance Education</dc:title>
</cp:coreProperties>
</file>