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CE8-6D33-4E8A-BF3C-1C161DE0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CAF6-C4B1-4EC5-8704-CDD37C80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898D-C561-4D26-A978-D8F6E24C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AD3-0AA6-4A4E-A92B-99BFF928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1519-9410-4C6B-BAE8-E7224D9F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9D67-9C80-475F-8CE4-08D3AB1A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A208-5B7D-4527-B88C-AE4965BA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4C40-196D-4C30-BCE8-3091DE26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32C0-AD2C-4D14-AF77-007EAE29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0C66-52F7-4621-A995-BCB64F10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09AB-F4F1-479A-A5C7-D5F1C7AD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EF6-EB08-48B1-976B-A9140A4A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162E-DEB7-49FF-A434-A435E0D3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5C93-639B-410A-8947-EC7C6EAD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4F50-0C3C-4194-A183-4BE7F243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CBE3-C116-4840-8C1C-093EA78C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3FFC-C6BE-446F-968B-B5C9B642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A68-A96E-452B-8FC4-2C58754F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DA1-B6A2-47DA-8C78-60CA85BC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BFD5-75BA-4FC4-BD13-DE0F9858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585-DB75-4EDE-B902-CD568646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CC7E-56DF-447E-BB4D-CFE71917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ED2-0F38-4ECB-97B7-B42C279A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7918-4BBA-43A1-95C4-F4FEE59F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C3CF-4E02-449A-BE56-3227EC68D01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7680" y="198108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C2CF-D9F8-42F0-AFDF-E8D8A27E0FD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8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de.lms.athabascau.ca/course/view.php?id=94" TargetMode="External"/><Relationship Id="rId3" Type="http://schemas.openxmlformats.org/officeDocument/2006/relationships/hyperlink" Target="http://cde.lms.athabascau.ca/course/view.php?id=94" TargetMode="External"/><Relationship Id="rId4" Type="http://schemas.openxmlformats.org/officeDocument/2006/relationships/hyperlink" Target="http://cde.lms.athabascau.ca/course/view.php?id=94" TargetMode="External"/><Relationship Id="rId5" Type="http://schemas.openxmlformats.org/officeDocument/2006/relationships/hyperlink" Target="http://cde.lms.athabascau.ca/course/view.php?id=94" TargetMode="External"/><Relationship Id="rId6" Type="http://schemas.openxmlformats.org/officeDocument/2006/relationships/hyperlink" Target="http://cde.lms.athabascau.ca/course/view.php?id=94" TargetMode="External"/><Relationship Id="rId7" Type="http://schemas.openxmlformats.org/officeDocument/2006/relationships/hyperlink" Target="http://cde.lms.athabascau.ca/course/view.php?id=94" TargetMode="External"/><Relationship Id="rId8" Type="http://schemas.openxmlformats.org/officeDocument/2006/relationships/hyperlink" Target="http://cde.lms.athabascau.ca/course/view.php?id=94" TargetMode="External"/><Relationship Id="rId9" Type="http://schemas.openxmlformats.org/officeDocument/2006/relationships/hyperlink" Target="http://cde.lms.athabascau.ca/course/view.php?id=94" TargetMode="External"/><Relationship Id="rId10" Type="http://schemas.openxmlformats.org/officeDocument/2006/relationships/hyperlink" Target="http://cde.lms.athabascau.ca/course/view.php?id=94" TargetMode="External"/><Relationship Id="rId11" Type="http://schemas.openxmlformats.org/officeDocument/2006/relationships/hyperlink" Target="http://moodle.khi.is/mod/forum/view.php?id=1954" TargetMode="External"/><Relationship Id="rId12" Type="http://schemas.openxmlformats.org/officeDocument/2006/relationships/hyperlink" Target="http://moodle.khi.is/mod/forum/view.php?id=1954" TargetMode="External"/><Relationship Id="rId13" Type="http://schemas.openxmlformats.org/officeDocument/2006/relationships/hyperlink" Target="http://moodle.khi.is/mod/forum/view.php?id=1954" TargetMode="External"/><Relationship Id="rId14" Type="http://schemas.openxmlformats.org/officeDocument/2006/relationships/hyperlink" Target="http://moodle.khi.is/mod/forum/view.php?id=1954" TargetMode="External"/><Relationship Id="rId15" Type="http://schemas.openxmlformats.org/officeDocument/2006/relationships/hyperlink" Target="http://moodle.khi.is/mod/forum/view.php?id=1954" TargetMode="External"/><Relationship Id="rId16" Type="http://schemas.openxmlformats.org/officeDocument/2006/relationships/hyperlink" Target="http://moodle.khi.is/mod/forum/view.php?id=1954" TargetMode="External"/><Relationship Id="rId17" Type="http://schemas.openxmlformats.org/officeDocument/2006/relationships/hyperlink" Target="http://moodle.khi.is/mod/forum/view.php?id=1954" TargetMode="External"/><Relationship Id="rId1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lluminate.com/live/md.html?rk=9B1LRFXLWI3IT7MK" TargetMode="External"/><Relationship Id="rId3" Type="http://schemas.openxmlformats.org/officeDocument/2006/relationships/hyperlink" Target="http://elluminate.com/live/md.html?rk=9B1LRFXLWI3IT7MK" TargetMode="External"/><Relationship Id="rId4" Type="http://schemas.openxmlformats.org/officeDocument/2006/relationships/hyperlink" Target="http://elluminate.com/live/md.html?rk=9B1LRFXLWI3IT7MK" TargetMode="External"/><Relationship Id="rId5" Type="http://schemas.openxmlformats.org/officeDocument/2006/relationships/hyperlink" Target="http://elluminate.com/live/md.html?rk=9B1LRFXLWI3IT7MK" TargetMode="External"/><Relationship Id="rId6" Type="http://schemas.openxmlformats.org/officeDocument/2006/relationships/hyperlink" Target="http://elluminate.com/live/md.html?rk=9B1LRFXLWI3IT7MK" TargetMode="External"/><Relationship Id="rId7" Type="http://schemas.openxmlformats.org/officeDocument/2006/relationships/hyperlink" Target="http://www.skype.com/welcomeback/" TargetMode="External"/><Relationship Id="rId8" Type="http://schemas.openxmlformats.org/officeDocument/2006/relationships/hyperlink" Target="http://www.skype.com/welcomeback/" TargetMode="External"/><Relationship Id="rId9" Type="http://schemas.openxmlformats.org/officeDocument/2006/relationships/hyperlink" Target="http://www.skype.com/welcomeback/" TargetMode="External"/><Relationship Id="rId10" Type="http://schemas.openxmlformats.org/officeDocument/2006/relationships/hyperlink" Target="http://www.skype.com/welcomeback/" TargetMode="External"/><Relationship Id="rId11" Type="http://schemas.openxmlformats.org/officeDocument/2006/relationships/hyperlink" Target="http://www.wiziq.com/Sign_In.aspx?show=0" TargetMode="External"/><Relationship Id="rId12" Type="http://schemas.openxmlformats.org/officeDocument/2006/relationships/hyperlink" Target="http://www.wiziq.com/Sign_In.aspx?show=0" TargetMode="External"/><Relationship Id="rId13" Type="http://schemas.openxmlformats.org/officeDocument/2006/relationships/hyperlink" Target="http://www.wiziq.com/Sign_In.aspx?show=0" TargetMode="External"/><Relationship Id="rId14" Type="http://schemas.openxmlformats.org/officeDocument/2006/relationships/hyperlink" Target="http://www.wiziq.com/Sign_In.aspx?show=0" TargetMode="External"/><Relationship Id="rId15" Type="http://schemas.openxmlformats.org/officeDocument/2006/relationships/hyperlink" Target="http://www.wiziq.com/Sign_In.aspx?show=0" TargetMode="External"/><Relationship Id="rId16" Type="http://schemas.openxmlformats.org/officeDocument/2006/relationships/hyperlink" Target="http://www.wiziq.com/Sign_In.aspx?show=0" TargetMode="External"/><Relationship Id="rId17" Type="http://schemas.openxmlformats.org/officeDocument/2006/relationships/hyperlink" Target="http://www.wiziq.com/Sign_In.aspx?show=0" TargetMode="External"/><Relationship Id="rId18" Type="http://schemas.openxmlformats.org/officeDocument/2006/relationships/hyperlink" Target="http://webmeeting.dimdim.com/portal/login.html" TargetMode="External"/><Relationship Id="rId19" Type="http://schemas.openxmlformats.org/officeDocument/2006/relationships/hyperlink" Target="http://webmeeting.dimdim.com/portal/login.html" TargetMode="External"/><Relationship Id="rId20" Type="http://schemas.openxmlformats.org/officeDocument/2006/relationships/hyperlink" Target="http://webmeeting.dimdim.com/portal/login.html" TargetMode="External"/><Relationship Id="rId21" Type="http://schemas.openxmlformats.org/officeDocument/2006/relationships/hyperlink" Target="http://webmeeting.dimdim.com/portal/login.html" TargetMode="External"/><Relationship Id="rId22" Type="http://schemas.openxmlformats.org/officeDocument/2006/relationships/hyperlink" Target="http://webmeeting.dimdim.com/portal/login.html" TargetMode="External"/><Relationship Id="rId2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incanada.blogspot.com/" TargetMode="External"/><Relationship Id="rId3" Type="http://schemas.openxmlformats.org/officeDocument/2006/relationships/hyperlink" Target="http://deincanada.blogspot.com/" TargetMode="External"/><Relationship Id="rId4" Type="http://schemas.openxmlformats.org/officeDocument/2006/relationships/hyperlink" Target="http://deincanada.blogspot.com/" TargetMode="External"/><Relationship Id="rId5" Type="http://schemas.openxmlformats.org/officeDocument/2006/relationships/hyperlink" Target="http://deincanada.blogspot.com/" TargetMode="External"/><Relationship Id="rId6" Type="http://schemas.openxmlformats.org/officeDocument/2006/relationships/hyperlink" Target="http://deincanada.blogspot.com/" TargetMode="External"/><Relationship Id="rId7" Type="http://schemas.openxmlformats.org/officeDocument/2006/relationships/hyperlink" Target="http://www.katsseriousblog.blogspot.com/" TargetMode="External"/><Relationship Id="rId8" Type="http://schemas.openxmlformats.org/officeDocument/2006/relationships/hyperlink" Target="http://www.katsseriousblog.blogspot.com/" TargetMode="External"/><Relationship Id="rId9" Type="http://schemas.openxmlformats.org/officeDocument/2006/relationships/hyperlink" Target="http://www.katsseriousblog.blogspot.com/" TargetMode="External"/><Relationship Id="rId10" Type="http://schemas.openxmlformats.org/officeDocument/2006/relationships/hyperlink" Target="http://www.katsseriousblog.blogspot.com/" TargetMode="External"/><Relationship Id="rId11" Type="http://schemas.openxmlformats.org/officeDocument/2006/relationships/hyperlink" Target="http://www.katsseriousblog.blogspot.com/" TargetMode="External"/><Relationship Id="rId12" Type="http://schemas.openxmlformats.org/officeDocument/2006/relationships/hyperlink" Target="http://robeebajar.blogspot.com/" TargetMode="External"/><Relationship Id="rId13" Type="http://schemas.openxmlformats.org/officeDocument/2006/relationships/hyperlink" Target="http://robeebajar.blogspot.com/" TargetMode="External"/><Relationship Id="rId14" Type="http://schemas.openxmlformats.org/officeDocument/2006/relationships/hyperlink" Target="http://robeebajar.blogspot.com/" TargetMode="External"/><Relationship Id="rId15" Type="http://schemas.openxmlformats.org/officeDocument/2006/relationships/hyperlink" Target="http://robeebajar.blogspot.com/" TargetMode="External"/><Relationship Id="rId16" Type="http://schemas.openxmlformats.org/officeDocument/2006/relationships/hyperlink" Target="http://robeebajar.blogspot.com/" TargetMode="External"/><Relationship Id="rId17" Type="http://schemas.openxmlformats.org/officeDocument/2006/relationships/hyperlink" Target="http://caiyuanliyu.blogspot.com/" TargetMode="External"/><Relationship Id="rId18" Type="http://schemas.openxmlformats.org/officeDocument/2006/relationships/hyperlink" Target="http://caiyuanliyu.blogspot.com/" TargetMode="External"/><Relationship Id="rId19" Type="http://schemas.openxmlformats.org/officeDocument/2006/relationships/hyperlink" Target="http://caiyuanliyu.blogspot.com/" TargetMode="External"/><Relationship Id="rId20" Type="http://schemas.openxmlformats.org/officeDocument/2006/relationships/hyperlink" Target="http://caiyuanliyu.blogspot.com/" TargetMode="External"/><Relationship Id="rId21" Type="http://schemas.openxmlformats.org/officeDocument/2006/relationships/hyperlink" Target="http://caiyuanliyu.blogspot.com/" TargetMode="External"/><Relationship Id="rId22" Type="http://schemas.openxmlformats.org/officeDocument/2006/relationships/hyperlink" Target="http://272869530.blogspot.com/" TargetMode="External"/><Relationship Id="rId23" Type="http://schemas.openxmlformats.org/officeDocument/2006/relationships/hyperlink" Target="http://272869530.blogspot.com/" TargetMode="External"/><Relationship Id="rId24" Type="http://schemas.openxmlformats.org/officeDocument/2006/relationships/hyperlink" Target="http://272869530.blogspot.com/" TargetMode="External"/><Relationship Id="rId25" Type="http://schemas.openxmlformats.org/officeDocument/2006/relationships/hyperlink" Target="http://karen-fruitbasket-karen.blogspot.com/" TargetMode="External"/><Relationship Id="rId26" Type="http://schemas.openxmlformats.org/officeDocument/2006/relationships/hyperlink" Target="http://karen-fruitbasket-karen.blogspot.com/" TargetMode="External"/><Relationship Id="rId27" Type="http://schemas.openxmlformats.org/officeDocument/2006/relationships/hyperlink" Target="http://karen-fruitbasket-karen.blogspot.com/" TargetMode="External"/><Relationship Id="rId28" Type="http://schemas.openxmlformats.org/officeDocument/2006/relationships/hyperlink" Target="http://karen-fruitbasket-karen.blogspot.com/" TargetMode="External"/><Relationship Id="rId29" Type="http://schemas.openxmlformats.org/officeDocument/2006/relationships/hyperlink" Target="http://karen-fruitbasket-karen.blogspot.com/" TargetMode="External"/><Relationship Id="rId3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aching.ed.qut.edu.au/cln618/wiki.1-07/index.php/Main_Page" TargetMode="External"/><Relationship Id="rId3" Type="http://schemas.openxmlformats.org/officeDocument/2006/relationships/hyperlink" Target="http://teaching.ed.qut.edu.au/cln618/wiki.1-07/index.php/Main_Page" TargetMode="External"/><Relationship Id="rId4" Type="http://schemas.openxmlformats.org/officeDocument/2006/relationships/hyperlink" Target="http://teaching.ed.qut.edu.au/cln618/wiki.1-07/index.php/Main_Page" TargetMode="External"/><Relationship Id="rId5" Type="http://schemas.openxmlformats.org/officeDocument/2006/relationships/hyperlink" Target="http://teaching.ed.qut.edu.au/cln618/wiki.1-07/index.php/Main_Page" TargetMode="External"/><Relationship Id="rId6" Type="http://schemas.openxmlformats.org/officeDocument/2006/relationships/hyperlink" Target="http://teaching.ed.qut.edu.au/cln618/wiki.1-07/index.php/Main_Page" TargetMode="External"/><Relationship Id="rId7" Type="http://schemas.openxmlformats.org/officeDocument/2006/relationships/hyperlink" Target="http://teaching.ed.qut.edu.au/cln618/wiki/index.php/Main_Page" TargetMode="External"/><Relationship Id="rId8" Type="http://schemas.openxmlformats.org/officeDocument/2006/relationships/hyperlink" Target="http://teaching.ed.qut.edu.au/cln618/wiki/index.php/Main_Page" TargetMode="External"/><Relationship Id="rId9" Type="http://schemas.openxmlformats.org/officeDocument/2006/relationships/hyperlink" Target="http://teaching.ed.qut.edu.au/cln618/wiki/index.php/Main_Page" TargetMode="External"/><Relationship Id="rId10" Type="http://schemas.openxmlformats.org/officeDocument/2006/relationships/hyperlink" Target="http://teaching.ed.qut.edu.au/cln618/wiki/index.php/Main_Page" TargetMode="External"/><Relationship Id="rId11" Type="http://schemas.openxmlformats.org/officeDocument/2006/relationships/hyperlink" Target="http://teaching.ed.qut.edu.au/cln618/wiki/index.php/Main_Page" TargetMode="External"/><Relationship Id="rId12" Type="http://schemas.openxmlformats.org/officeDocument/2006/relationships/hyperlink" Target="http://teaching.ed.qut.edu.au/cln618/wiki/index.php/Main_Page" TargetMode="External"/><Relationship Id="rId13" Type="http://schemas.openxmlformats.org/officeDocument/2006/relationships/hyperlink" Target="http://athabascakhi.wikispaces.com/KHI" TargetMode="External"/><Relationship Id="rId14" Type="http://schemas.openxmlformats.org/officeDocument/2006/relationships/hyperlink" Target="http://athabascakhi.wikispaces.com/KHI" TargetMode="External"/><Relationship Id="rId15" Type="http://schemas.openxmlformats.org/officeDocument/2006/relationships/hyperlink" Target="http://athabascakhi.wikispaces.com/KHI" TargetMode="External"/><Relationship Id="rId16" Type="http://schemas.openxmlformats.org/officeDocument/2006/relationships/hyperlink" Target="http://athabascakhi.wikispaces.com/KHI" TargetMode="External"/><Relationship Id="rId17" Type="http://schemas.openxmlformats.org/officeDocument/2006/relationships/hyperlink" Target="http://athabascakhi.wikispaces.com/KHI" TargetMode="External"/><Relationship Id="rId1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de.athabascau.ca/umlautm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23880"/>
            <a:ext cx="739116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000"/>
                </a:solidFill>
                <a:latin typeface="Times New Roman"/>
              </a:rPr>
              <a:t>E-Tools and Teaching ESL through Distance Education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76160" y="3429000"/>
            <a:ext cx="5715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r Debra Hoven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Centre for Distance Education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Athabasca University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TESL Ca Symposium</a:t>
            </a:r>
            <a:endParaRPr b="0" lang="en-US" sz="2400" spc="-1" strike="noStrike">
              <a:solidFill>
                <a:srgbClr val="ff8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Moncton, 29 May 2008</a:t>
            </a:r>
            <a:endParaRPr b="0" lang="en-US" sz="24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Moodle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Athabasca U course Moodle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2"/>
              </a:rPr>
              <a:t>http: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3"/>
              </a:rPr>
              <a:t>//cde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5"/>
              </a:rPr>
              <a:t>lms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6"/>
              </a:rPr>
              <a:t>.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7"/>
              </a:rPr>
              <a:t>athabascau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8"/>
              </a:rPr>
              <a:t>.ca/course/view.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9"/>
              </a:rPr>
              <a:t>php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0"/>
              </a:rPr>
              <a:t>?id=94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Iceland University of Education Moodle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1"/>
              </a:rPr>
              <a:t>http: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2"/>
              </a:rPr>
              <a:t>//moodle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3"/>
              </a:rPr>
              <a:t>.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4"/>
              </a:rPr>
              <a:t>khi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5"/>
              </a:rPr>
              <a:t>.is/mod/forum/view.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6"/>
              </a:rPr>
              <a:t>php</a:t>
            </a:r>
            <a:r>
              <a:rPr b="0" lang="en-US" sz="3200" spc="-1" strike="noStrike" u="sng">
                <a:solidFill>
                  <a:srgbClr val="9c9fff"/>
                </a:solidFill>
                <a:uFillTx/>
                <a:latin typeface="Tahoma"/>
                <a:hlinkClick r:id="rId17"/>
              </a:rPr>
              <a:t>?id=1954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ome student-created Moodle sites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Voice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Elluminate vRoom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3"/>
              </a:rPr>
              <a:t>//elluminate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5"/>
              </a:rPr>
              <a:t>com/live/md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6"/>
              </a:rPr>
              <a:t>.html?rk=9B1LRFXLWI3IT7MK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Skype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7"/>
              </a:rPr>
              <a:t>http://www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8"/>
              </a:rPr>
              <a:t>skype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9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0"/>
              </a:rPr>
              <a:t>com/welcomeback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WiZiQ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1"/>
              </a:rPr>
              <a:t>http://www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2"/>
              </a:rPr>
              <a:t>wiziq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3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4"/>
              </a:rPr>
              <a:t>com/Sign_In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5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6"/>
              </a:rPr>
              <a:t>aspx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7"/>
              </a:rPr>
              <a:t>?show=0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imDim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8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9"/>
              </a:rPr>
              <a:t>//webmeeting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0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1"/>
              </a:rPr>
              <a:t>dimdim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2"/>
              </a:rPr>
              <a:t>.com/portal/login.html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Blogging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ebra’s blog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lifentheuniverse.blogspot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E blog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3"/>
              </a:rPr>
              <a:t>//deincanada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5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6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Kat’s blog &amp; classe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7"/>
              </a:rPr>
              <a:t>http://www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8"/>
              </a:rPr>
              <a:t>katsseriousblog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9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0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1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Robee’s corner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2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3"/>
              </a:rPr>
              <a:t>//robeebajar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4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5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6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Lila’s blog &amp; student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7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8"/>
              </a:rPr>
              <a:t>//caiyuanliyu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9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0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1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2"/>
              </a:rPr>
              <a:t>http://272869530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3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4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5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6"/>
              </a:rPr>
              <a:t>//karen-fruitbasket-karen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7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8"/>
              </a:rPr>
              <a:t>blogspo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9"/>
              </a:rPr>
              <a:t>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Wikis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AU wiki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QUT wiki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"/>
              </a:rPr>
              <a:t>http://teaching.ed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3"/>
              </a:rPr>
              <a:t>qu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5"/>
              </a:rPr>
              <a:t>edu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6"/>
              </a:rPr>
              <a:t>.au/cln618/wiki.1-07/index.php/Main_Page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7"/>
              </a:rPr>
              <a:t>http://teaching.ed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8"/>
              </a:rPr>
              <a:t>qut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9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0"/>
              </a:rPr>
              <a:t>edu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1"/>
              </a:rPr>
              <a:t>.au/cln618/wiki/index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2"/>
              </a:rPr>
              <a:t>php/Main_Page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KHI wiki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3"/>
              </a:rPr>
              <a:t>http: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4"/>
              </a:rPr>
              <a:t>//athabascakhi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5"/>
              </a:rPr>
              <a:t>.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6"/>
              </a:rPr>
              <a:t>wikispaces</a:t>
            </a: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17"/>
              </a:rPr>
              <a:t>.com/KHI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Mobile learning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Facebook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www.facebook.com/group.php?gid=2389494301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MobiGlam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9fff"/>
                </a:solidFill>
                <a:uFillTx/>
                <a:latin typeface="Tahoma"/>
                <a:hlinkClick r:id="rId2"/>
              </a:rPr>
              <a:t>http://cde.athabascau.ca/umlaut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igital storytelling 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electronicportfolios.org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E-Portfolio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me2u.athabascau.ca/elgg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… </a:t>
            </a: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and beyond …?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Your thoughts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Your comments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Your ideas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:-)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ontac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email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debrah@athabascau.ca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blog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deincanada.blogspot.com/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AU website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http://cde.athabascau.ca/faculty/debrah.php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21:12:57Z</dcterms:created>
  <dc:creator>DebraH</dc:creator>
  <dc:description/>
  <dc:language>en-US</dc:language>
  <cp:lastModifiedBy>DebraH</cp:lastModifiedBy>
  <dcterms:modified xsi:type="dcterms:W3CDTF">2008-05-29T11:15:23Z</dcterms:modified>
  <cp:revision>4</cp:revision>
  <dc:subject/>
  <dc:title>E-Tools and Teaching ESL through Distance Education</dc:title>
</cp:coreProperties>
</file>