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7E3C-552F-47B4-9A77-8C8856273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xplain features/functionalities/rationale for online learning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D18-FAAB-435A-BC0D-B8BF168A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753-903C-48C3-8080-3F16B835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7EB6-139E-4321-A02F-2D3FE254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CD8-AE86-40EC-8A9C-D9668A09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4E0B-BBF7-4051-AD41-98B465E3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1ADD-7EC8-4594-AE09-01964AB8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D7AD-62AC-4283-B027-F7414D99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2815-7E07-4719-B059-1A508D2B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EEC6-779F-4970-8D0D-8E50FD09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6C2B-8724-4095-ACB7-69E4D628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A3BA-4D00-4151-BC0E-526261F2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CD1C-50F0-4800-AD54-D14F7418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1D13-DE82-40AB-9599-15F73463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0D33-9D32-4A54-8ACA-CED3444F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0A1E-4D57-438C-9E59-B5E3C195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E018-0D6D-4C7F-9EFA-9736410D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F959-7152-4ED0-B4D6-8E572015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F448-90D8-4192-92FB-441991FE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8C19-E545-4432-A21C-E37387D8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23EE-A7B1-471E-8AAC-4F8383F2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4D0-62A3-46B2-A64C-D87E8F67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646-75EC-4DD3-9ED9-B7CE8FAF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D14-1DFB-4763-92FE-876BBDC1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4BE-3567-4C88-AD6C-79C6AD44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8D94-1C36-4387-ACFE-7111547B2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5965920"/>
            <a:ext cx="9144000" cy="89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EB75-2E61-42D9-8DAD-240895F09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corinneb@athabascau.ca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-Tools and 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Teaching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ESL Through Distance 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Education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Wimba: Future Di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ice boards for translation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ral exams for “challenge”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men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ice board option for oral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tential integration with Moodle to foster online learning community of DE language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corinneb@athabascau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oodle &amp; ESL Cou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dergraduate level, asynchronous mode of Distance Education delivery, self-paced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odle: learning management system adopted by AU for its online cours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cremental approach to development of online ESL course (transition: from print to onl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oodle &amp; ESL Cou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2247840"/>
            <a:ext cx="4038480" cy="3230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224784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oodle &amp; ESL Cou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oodle &amp; ESL Cou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658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Voice Communication: Wim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e for the Wimba pilo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Context: Oral Quizzes over telephone with t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technology: to address gap in learning a language at distance; good fit with asynchronous, self-paced ESL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Voice Communication: Wim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Wimb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Voice Communication: Wim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Pilot project Survey Findings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use? Yes, 9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oral communication?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oral communication?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Building an online community of DE language learners in asynchronous self-paced learning cont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5:12:34Z</dcterms:created>
  <dc:creator>Corinne Bosse</dc:creator>
  <dc:description/>
  <dc:language>en-US</dc:language>
  <cp:lastModifiedBy>Corinne Bosse</cp:lastModifiedBy>
  <dcterms:modified xsi:type="dcterms:W3CDTF">2008-05-29T06:50:27Z</dcterms:modified>
  <cp:revision>23</cp:revision>
  <dc:subject/>
  <dc:title>Slide 1</dc:title>
</cp:coreProperties>
</file>