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D358C-FC0D-41ED-BE32-E7E248784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Explain features/functionalities/rationale for online learning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848D-8204-4A00-9BBA-95B5DB3A8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3B03-2E26-45E8-A37C-34333ACAA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9473-2242-481B-9C65-BC5DA82E4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F3D6-5CB5-4591-815B-4FB99717F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DA09E-379C-455E-8BC6-6600BB2F1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94135-9850-4D4C-90A3-FAEA228F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DF535-8B91-4D0C-811D-0468F01C5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A995E-AA53-4547-AD8D-C01F99A4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08889-8389-4515-83A9-E0E0E54D8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5AAA9-5682-403C-856D-6204CAF07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C2C29-590A-4005-81CB-9B3D6436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A692-E9CF-42A7-A579-78CE137CD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A688B-2A69-4DE8-8158-7CC405EE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7DC0D-39A3-4ED9-9B5A-1FBB4CF6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BAED7-DA90-4037-8C79-A1E6AC62D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F314E-7121-4C7B-888B-67B373603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70C3A-3B71-4FD5-B2FD-9C8940272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ADCE-C6ED-4C09-BA53-FCC21E564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B68F-1577-4072-979F-0DC7A26B8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315C-E647-4588-B20A-1B2D4831F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6963-E982-434B-911C-AD757426D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0635-F8B3-45A4-93A8-C5380A9E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39FD-8047-411E-88B8-B26DCFDD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3A8C-C649-440C-A978-3A348625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96BC2-2A71-4055-B4A1-C1230000A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5965920"/>
            <a:ext cx="9144000" cy="89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D40C-CE79-4E05-B951-181BDB875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corinneb@athabascau.ca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-Tools and </a:t>
            </a: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Teaching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ESL Through Distance </a:t>
            </a: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Education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resented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rinne Bo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Wimba: Future Dir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Voice boards for translation cour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ral exams for “challenge”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lacemen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Voice board option for oral assig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otential integration with Moodle to foster online learning community of DE language lear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rinne Bo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corinneb@athabascau.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Moodle &amp; ESL Cour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ndergraduate level, asynchronous mode of Distance Education delivery, self-paced 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oodle: learning management system adopted by AU for its online course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cremental approach to development of online ESL course (transition: from print to onlin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Moodle &amp; ESL Cour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2247840"/>
            <a:ext cx="4038480" cy="32306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648320" y="2247840"/>
            <a:ext cx="403848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Moodle &amp; ESL Cour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Moodle &amp; ESL Cour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5658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Voice Communication: Wim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ionale for the Wimba pilot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earning Context: Oral Quizzes over telephone with t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earning technology: to address gap in learning a language at distance; good fit with asynchronous, self-paced ESL 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Voice Communication: Wim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is Wimb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143000" y="2438280"/>
            <a:ext cx="464832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Voice Communication: Wim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034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Pilot project Survey Findings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e of use? Yes, 9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oral communication? 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d oral communication? 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e: Building an online community of DE language learners in asynchronous self-paced learning contex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05:12:34Z</dcterms:created>
  <dc:creator>Corinne Bosse</dc:creator>
  <dc:description/>
  <dc:language>en-US</dc:language>
  <cp:lastModifiedBy>Corinne Bosse</cp:lastModifiedBy>
  <dcterms:modified xsi:type="dcterms:W3CDTF">2008-05-29T06:50:27Z</dcterms:modified>
  <cp:revision>23</cp:revision>
  <dc:subject/>
  <dc:title>Slide 1</dc:title>
</cp:coreProperties>
</file>