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D4FB-4E7E-4E94-9507-AC639978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features/functionalities/rationale for online learning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168-F2B2-4E14-AEB2-5CAE2031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CCF-5AFC-48AD-B91E-F73691E4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F3D-44E4-400F-BBA6-0F366F37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3BA-20FD-4FA0-9146-9F783567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C73B-3505-4668-BAF9-641A2667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63EB-C755-4E81-8710-3BBF38ED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6C28-7E31-4249-9D1F-583027A1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203E-2974-40AA-BD22-6537D5C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D666-A9D7-47BA-98F8-3BF6A58E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A6C4-D197-4CC6-9C46-CBA24B92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39C4-96DC-4224-9BCE-9D719AE2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9F1-BC90-4DD4-B59B-9AABA2A6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B912-399A-4AF3-882B-A12311BB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A823-337C-46D5-8326-017F6DBC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5427-E1A3-4D69-BB77-30C4D364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72C-7919-43C2-97D6-D45ABB37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3194-66A4-4044-B8DB-58C819FC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02C-89ED-4697-B241-0B829E8E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68A-E59D-4B22-9462-950D9D3E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6AB-1191-49C7-8412-91683889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882-C83D-41F4-ADC6-2A99D293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875-6667-4EF6-8388-D06392C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1E1-C5CD-4179-8A76-6D833E8E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F96-2F8A-44F6-A05C-2F1487E9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0CE8-2DB1-4447-97E7-11DF10E45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65920"/>
            <a:ext cx="914400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EA83-F165-4B3E-9516-B6494C8D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orinneb@athabascau.c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-Tools and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eaching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SL Through Distance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ion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imba: 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boards for translation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al exams for “challenge”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men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board option for oral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tential integration with Moodle to foster online learning community of DE language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rinne 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orinneb@athabascau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graduate level, asynchronous mode of Distance Education delivery, self-paced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odle: learning management system adopted by AU for its online cours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remental approach to development of online ESL course (transition: from print to onl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24784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odle &amp; ESL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65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e for the Wimba pilo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Context: Oral Quizzes over telephone with t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technology: to address gap in learning a language at distance; good fit with asynchronous, self-paced ESL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Wimb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oice Communication: Wi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ilot project Survey Finding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? Yes, 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ral communication?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oral communication?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Building an online community of DE language learners in asynchronous self-paced learning con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5:12:34Z</dcterms:created>
  <dc:creator>Corinne Bosse</dc:creator>
  <dc:description/>
  <dc:language>en-US</dc:language>
  <cp:lastModifiedBy>Corinne Bosse</cp:lastModifiedBy>
  <dcterms:modified xsi:type="dcterms:W3CDTF">2008-05-29T06:50:27Z</dcterms:modified>
  <cp:revision>23</cp:revision>
  <dc:subject/>
  <dc:title>Slide 1</dc:title>
</cp:coreProperties>
</file>