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499-AA2C-4E96-8AB1-93A3EA99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features/functionalities/rationale for online learning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3E-EEB8-49E3-AA85-55943338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D43-5BD8-423C-A56C-CAE6407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1AE-1A75-4AB8-AABE-9EBD805F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F3A-6535-4E0E-9038-14CD7CEE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85F-14B2-47A6-9286-3F8D8097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014-D4F3-4D3C-B407-FFF5545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C38-40DA-4AB5-AF3A-787E8B1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C93-FD45-405A-A4E1-AB1372D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E39-0041-47C6-9423-60CD6B9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721C-F6AA-428F-83FD-77B26DEB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C20D-4063-407D-A194-443A09A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24E-B451-4304-96C0-AF9A680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8C66-4C72-4593-866F-4F30636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151-B62C-45EF-9D87-FA55C6C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C5A-E0FF-4519-A12E-49685BE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191-5932-4A54-BD49-DD6E9A33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0798-25D6-4ADC-95CC-0F65667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D9C-A0B7-4E8B-8148-05BADCA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854-EE8E-4D01-B79B-7107E645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46D-CE4E-4CE8-B13C-F6D825C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E13-766C-47A0-9ABF-116F5B7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657-AE09-46F8-87D6-E774175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A97-2139-438D-BAEC-9558C81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9CE-77EC-4160-B07A-6C0CB4A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7BB-D7FA-4663-BB1B-6CC4BC9E4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05E-F8B2-4260-8F91-523029F8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rinneb@athabascau.c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-Tools and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SL Through Distance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imba: 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s for translati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al exams for “challenge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m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 option for oral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tential integration with Moodle to foster online learning community of DE languag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orinneb@athabascau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level, asynchronous mode of Distance Education delivery, self-pa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odle: learning management system adopted by AU for its online cours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remental approach to development of online ESL course (transition: from print to onl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5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e for the Wimba pilo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Context: Oral Quizzes over telephone with t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technology: to address gap in learning a language at distance; good fit with asynchronous, self-paced ESL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Wimb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ilot project Survey Finding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? Yes, 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Building an online community of DE language learners in asynchronous self-paced learning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5:12:34Z</dcterms:created>
  <dc:creator>Corinne Bosse</dc:creator>
  <dc:description/>
  <dc:language>en-US</dc:language>
  <cp:lastModifiedBy>Corinne Bosse</cp:lastModifiedBy>
  <dcterms:modified xsi:type="dcterms:W3CDTF">2008-05-29T06:50:27Z</dcterms:modified>
  <cp:revision>23</cp:revision>
  <dc:subject/>
  <dc:title>Slide 1</dc:title>
</cp:coreProperties>
</file>